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1E4-DD9A-4336-8D55-F266F608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F5B-F5C1-43FB-A812-A986720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129-F779-49BB-91DC-273540DA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2AB-E38F-4994-9FE6-6FA0A461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039-B341-46D9-BAF3-FDB85C4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5EA-B0A0-4FA0-A5D9-076A877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B62-85FF-4B99-8A3E-FF4A0BE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08A-ED8F-4142-89C4-35AA1E1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FEA-3963-47DE-8F14-DE739E6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170-EB19-4DD8-8EE1-3DC5DB7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343-F8DC-49DA-8660-FDF5CDF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C70-2728-4724-9768-0849BB2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317-9978-4BD4-8E1F-FE8C1660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N.Rusanova</cp:lastModifiedBy>
  <dcterms:modified xsi:type="dcterms:W3CDTF">2013-10-03T09:59:46Z</dcterms:modified>
  <cp:revision>73</cp:revision>
  <dc:subject/>
  <dc:title>Слайд 1</dc:title>
</cp:coreProperties>
</file>