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13AF-1EF3-4818-BD79-3D608853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09B-643B-4869-ABE3-A5AB8418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9893-3FA6-4378-99AE-4E8FBF5C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B8D-A654-46AC-B1D9-0DE06C33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3E31-994D-45BA-B97C-A145C34C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C6C-D7D4-467C-8CAF-427294B7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E75-81EF-483C-B930-E3BC5249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9488-BD83-42DB-A7E6-8C65AE87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E0A8-EAD2-4AB7-B109-915157EA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53F-DAB9-4D19-88E8-77433C85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732-E700-4B70-8206-4D18272B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778A-E065-457D-893A-D9F69C12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7850-2680-401F-AEEB-22F578433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2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Заголовок 1"/>
          <p:cNvSpPr/>
          <p:nvPr/>
        </p:nvSpPr>
        <p:spPr>
          <a:xfrm>
            <a:off x="1727280" y="1700280"/>
            <a:ext cx="7416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br>
              <a:rPr sz="6600"/>
            </a:b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ОВНІШНЄ НЕЗАЛЕЖНЕ ОЦІНЮВАННЯ 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014</a:t>
            </a: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ро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08000" y="1528560"/>
            <a:ext cx="72360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Мет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ознайомлення з процедурою проведення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значається самостійно після виконання всіх завдань та отримання правильних відпові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шкалою 100-200 балів може бути встановлений за умови використання учасником сервісу з визначення результатів пробного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Пробне ЗНО проводиться на платній осно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9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ОБЛИВОСТІ ПРОБНОГ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907560"/>
            <a:ext cx="7417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еєстрація: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 по 30 листопада 20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ерміни проведе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Для проходження пробного ЗНО обирається лише один предмет в кожен із днів проведення тестуван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92360" y="1700280"/>
          <a:ext cx="7129440" cy="3662280"/>
        </p:xfrm>
        <a:graphic>
          <a:graphicData uri="http://schemas.openxmlformats.org/drawingml/2006/table">
            <a:tbl>
              <a:tblPr/>
              <a:tblGrid>
                <a:gridCol w="3546720"/>
                <a:gridCol w="3582720"/>
              </a:tblGrid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резня 2014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резня 2014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їнська мова і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мі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ійська 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світня істор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оземна мов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ійська, німецька, французька, іспанська (за виборо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сторія Украї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олог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ітова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Group 2"/>
          <p:cNvGrpSpPr/>
          <p:nvPr/>
        </p:nvGrpSpPr>
        <p:grpSpPr>
          <a:xfrm>
            <a:off x="0" y="189000"/>
            <a:ext cx="1692360" cy="6408720"/>
            <a:chOff x="0" y="189000"/>
            <a:chExt cx="1692360" cy="6408720"/>
          </a:xfrm>
        </p:grpSpPr>
        <p:pic>
          <p:nvPicPr>
            <p:cNvPr id="56" name="Picture 3" descr="logo"/>
            <p:cNvPicPr/>
            <p:nvPr/>
          </p:nvPicPr>
          <p:blipFill>
            <a:blip r:embed="rId1"/>
            <a:stretch/>
          </p:blipFill>
          <p:spPr>
            <a:xfrm>
              <a:off x="69480" y="476280"/>
              <a:ext cx="12308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"/>
            <p:cNvSpPr/>
            <p:nvPr/>
          </p:nvSpPr>
          <p:spPr>
            <a:xfrm>
              <a:off x="0" y="1773360"/>
              <a:ext cx="169236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155088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0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Заголовок 1"/>
          <p:cNvSpPr/>
          <p:nvPr/>
        </p:nvSpPr>
        <p:spPr>
          <a:xfrm>
            <a:off x="1547640" y="549360"/>
            <a:ext cx="774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9 КРОКІВ: РЕЄСТРАЦІЯ, УЧАСТЬ,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835280" y="1197000"/>
            <a:ext cx="7056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На сайті ХРЦОЯО у розділі «Пробне ЗНО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знайомитися з умовами проведенн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повнити всі поля та отримати персональний код (зберегти код!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йти на сторінку «Особистий кабіне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аяву та квитанції для оплати кожного замовленого предмета окре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формити заяву та надіслати поштою до ХРЦОЯ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платити квитанції в будь-якому банку протягом 3 робочих дн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еревірити оплату та надходження заяви на сторінці «Особистий кабінет» через 10 робочих днів із дня оплати квитанцій та відправки зая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і сторінки «Особистий кабінет» запрошення, в якому буде зазначено місце та час проведення (з 3 березня 2014 рок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Взяти участь у пробному ЗНО (маючи при собі документ, що посвідчує особу, та запрошенн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ісля участі у пробному ЗНО перенести відповіді з паперового бланка до електронного бланка, який розміщений на сторінці «Особистий кабінет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знайомитись із результатом на сторінці «Особистий кабінет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з 4 квітня 2014 року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12400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968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78144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4435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5153040" y="9684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8388360" y="2852640"/>
            <a:ext cx="542880" cy="576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8317080" y="4653000"/>
            <a:ext cx="61272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73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8"/>
          <p:cNvSpPr/>
          <p:nvPr/>
        </p:nvSpPr>
        <p:spPr>
          <a:xfrm>
            <a:off x="1908000" y="765000"/>
            <a:ext cx="72360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орум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N.Rusanova</cp:lastModifiedBy>
  <dcterms:modified xsi:type="dcterms:W3CDTF">2013-10-03T09:59:46Z</dcterms:modified>
  <cp:revision>73</cp:revision>
  <dc:subject/>
  <dc:title>Слайд 1</dc:title>
</cp:coreProperties>
</file>