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952-F602-44A4-99D0-6016A41E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3E4-B7E8-4693-812E-D091C13A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77B-E0CA-4061-936F-81584EDC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F61-0394-457F-854C-64F7844C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F5F4-0F20-4ACC-A831-02A9F464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DF7D-D709-468C-A52C-679C7799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8439-3112-49A9-A9E6-5FABDB44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4ED4-BBF0-4D93-BF65-5D3D3DA2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7AA5-F0D9-4F8F-B12D-09484998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FA08-EC80-47A6-9B5C-6777E3FF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E057-CE12-4CB0-B06B-3E185B1B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69C-B5E8-4127-A637-D64DED1A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D429-16D2-4955-8D44-07D5F529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B7AE-B0B5-4323-99D8-6145202B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A182-E6EB-4222-8DA9-3A2DAA02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1C6C-7435-499D-9CF3-259F9595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63D3-0D1D-433E-92EB-FA9DF48F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00F3-E727-4600-B7DB-43F43561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18FF-1ACC-4C89-A9B2-B1D497B0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2D21-BD14-493F-A123-E1240BA2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03E8-E0C3-4596-A199-764D87EF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3BFF-954D-488F-AEF8-190E30D9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C6F-F584-4131-A233-C3D2E722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21D7-1173-49E8-9286-7258E252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B0FB-C903-4B4A-BA69-88CFCDCC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7D36F-BC6C-4E04-AC4D-60CE21D2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67F8-2C5D-415F-835A-6F13D81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690A-A786-4F55-B521-B9E61B7E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01E58-7321-4D1B-9FB8-C12CF6B7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4D7F-2D15-404D-A0A5-6F05DBE1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C297-C5B5-4BD4-BCA8-66846413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B6AE-6FFF-4481-B7CC-72BE51BF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9832-1AFC-44E3-9964-49D1EC3E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75B-8901-4E01-9564-7EE1A850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034D-7438-4272-9171-F3D1123D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4337A-C5A3-4E4F-827F-198B7390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C7885-F23F-421A-A65B-DAC4CF5D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BE4CA-4D4E-46B0-A384-502C0E8E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1DB8-B05B-408F-BCC9-28C4C7DC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B131B-4E4F-448A-B940-1D89AF81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FA00-4750-4BCC-8885-3F57BF00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FB62F-31CA-40CE-BEA5-5FADE977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439EA-3AE8-4D91-910A-C4BB5EC5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337-5A56-49C2-8C0B-66655F7A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6B6-8986-4594-A265-03B20F71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782-D3EE-4F93-B453-103135D0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7DF-67CD-41EE-B813-5C1936E3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F7E-D2E8-4A7E-8518-0503CDEC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9C74-A86C-4C02-8F22-EA319AFFE8F4}" type="slidenum"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308B-5146-4542-8E25-D0893215D556}" type="slidenum"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2efc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B171-C4E9-415D-809E-410A1B483D1C}" type="slidenum">
              <a:rPr b="0" lang="uk-UA" sz="1200" spc="-1" strike="noStrike">
                <a:solidFill>
                  <a:srgbClr val="f2ef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C7DB-C444-40CD-AB91-8310CFE0EB08}" type="slidenum">
              <a:rPr b="0" lang="uk-UA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19080" y="2541600"/>
            <a:ext cx="9169560" cy="1079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499840" y="1928520"/>
            <a:ext cx="3714840" cy="450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ina Viktorivna Kalinichenk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alis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9315"/>
                </a:solidFill>
                <a:latin typeface="Times New Roman"/>
                <a:ea typeface="Times New Roman"/>
              </a:rPr>
              <a:t>Graduated from Kharkiv Pedagogical </a:t>
            </a:r>
            <a:r>
              <a:rPr b="1" lang="uk-UA" sz="1800" spc="-1" strike="noStrike">
                <a:solidFill>
                  <a:srgbClr val="b79315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b79315"/>
                </a:solidFill>
                <a:latin typeface="Times New Roman"/>
                <a:ea typeface="Times New Roman"/>
              </a:rPr>
              <a:t>University named by G.S. Skovoroda in 2012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glish teacher in Malodanylivskyy Lyceum since 2011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uk-UA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Подзаголовок 2"/>
          <p:cNvSpPr/>
          <p:nvPr/>
        </p:nvSpPr>
        <p:spPr>
          <a:xfrm rot="16200000">
            <a:off x="-3214440" y="3071160"/>
            <a:ext cx="7000920" cy="57168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214280" y="285840"/>
            <a:ext cx="66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rgachi district state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partment of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lodanylivskyy Lyc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E:\учитель року 2015 3\урок\IMG_5200.jpg"/>
          <p:cNvPicPr/>
          <p:nvPr/>
        </p:nvPicPr>
        <p:blipFill>
          <a:blip r:embed="rId2"/>
          <a:stretch/>
        </p:blipFill>
        <p:spPr>
          <a:xfrm>
            <a:off x="6357960" y="2000160"/>
            <a:ext cx="2571840" cy="425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http://www.doskaurala.ru/orimg/45342-1.jpg"/>
          <p:cNvPicPr/>
          <p:nvPr/>
        </p:nvPicPr>
        <p:blipFill>
          <a:blip r:embed="rId3"/>
          <a:stretch/>
        </p:blipFill>
        <p:spPr>
          <a:xfrm>
            <a:off x="357120" y="3571920"/>
            <a:ext cx="1928880" cy="2714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Герб Дергачей"/>
          <p:cNvPicPr/>
          <p:nvPr/>
        </p:nvPicPr>
        <p:blipFill>
          <a:blip r:embed="rId4"/>
          <a:stretch/>
        </p:blipFill>
        <p:spPr>
          <a:xfrm>
            <a:off x="571680" y="714240"/>
            <a:ext cx="1714320" cy="1071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Герб Лицей"/>
          <p:cNvPicPr/>
          <p:nvPr/>
        </p:nvPicPr>
        <p:blipFill>
          <a:blip r:embed="rId5"/>
          <a:stretch/>
        </p:blipFill>
        <p:spPr>
          <a:xfrm>
            <a:off x="7072200" y="714240"/>
            <a:ext cx="18716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The topic of self-education: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153a1"/>
                </a:solidFill>
                <a:latin typeface="Constantia"/>
              </a:rPr>
              <a:t>“</a:t>
            </a:r>
            <a:r>
              <a:rPr b="0" i="1" lang="en-US" sz="2800" spc="-1" strike="noStrike">
                <a:solidFill>
                  <a:srgbClr val="7153a1"/>
                </a:solidFill>
                <a:latin typeface="Constantia"/>
              </a:rPr>
              <a:t>The developing of dialogical skills as a means of successfully upgrading of education in a  system of informal teacher’s work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www.mir-konkursov.ru/userfiles/229.jpg"/>
          <p:cNvPicPr/>
          <p:nvPr/>
        </p:nvPicPr>
        <p:blipFill>
          <a:blip r:embed="rId1"/>
          <a:stretch/>
        </p:blipFill>
        <p:spPr>
          <a:xfrm>
            <a:off x="0" y="3929040"/>
            <a:ext cx="9144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5520" y="3643200"/>
            <a:ext cx="3857400" cy="29289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24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207" name="Заголовок 1"/>
          <p:cNvSpPr/>
          <p:nvPr/>
        </p:nvSpPr>
        <p:spPr>
          <a:xfrm rot="16200000">
            <a:off x="-2750040" y="2964600"/>
            <a:ext cx="6858000" cy="13572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d7e0e"/>
                </a:solidFill>
                <a:latin typeface="Times New Roman"/>
              </a:rPr>
              <a:t>Research 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6" descr="http://cs622425.vk.me/v622425515/4bd4d/qkWyLPMHJgI.jpg"/>
          <p:cNvPicPr/>
          <p:nvPr/>
        </p:nvPicPr>
        <p:blipFill>
          <a:blip r:embed="rId2"/>
          <a:stretch/>
        </p:blipFill>
        <p:spPr>
          <a:xfrm>
            <a:off x="1357200" y="0"/>
            <a:ext cx="3929040" cy="3071880"/>
          </a:xfrm>
          <a:prstGeom prst="rect">
            <a:avLst/>
          </a:prstGeom>
          <a:ln w="0">
            <a:noFill/>
          </a:ln>
        </p:spPr>
      </p:pic>
      <p:sp>
        <p:nvSpPr>
          <p:cNvPr id="209" name="Заголовок 1"/>
          <p:cNvSpPr/>
          <p:nvPr/>
        </p:nvSpPr>
        <p:spPr>
          <a:xfrm>
            <a:off x="4786200" y="0"/>
            <a:ext cx="4357800" cy="68580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In 2014-20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Anna Mosinyan won the regional stage and become a member of MANwith research work on the topic “Physiological metaphor in political discourse" .In the 2015-2016 we continued work on the topic: "Innovations in the English language under the influence of the Interne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8" descr="http://cs622425.vk.me/v622425515/4bd61/UcrmLAoaqmA.jpg"/>
          <p:cNvPicPr/>
          <p:nvPr/>
        </p:nvPicPr>
        <p:blipFill>
          <a:blip r:embed="rId3"/>
          <a:stretch/>
        </p:blipFill>
        <p:spPr>
          <a:xfrm>
            <a:off x="1285920" y="3071880"/>
            <a:ext cx="3500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3643200"/>
            <a:ext cx="3857400" cy="29289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24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212" name="Заголовок 1"/>
          <p:cNvSpPr/>
          <p:nvPr/>
        </p:nvSpPr>
        <p:spPr>
          <a:xfrm rot="16200000">
            <a:off x="-2750040" y="2750400"/>
            <a:ext cx="6858000" cy="13572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d7e0e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dd7e0e"/>
                </a:solidFill>
                <a:latin typeface="Arial"/>
              </a:rPr>
              <a:t>Magic Camp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Заголовок 1"/>
          <p:cNvSpPr/>
          <p:nvPr/>
        </p:nvSpPr>
        <p:spPr>
          <a:xfrm>
            <a:off x="4786200" y="214200"/>
            <a:ext cx="4357800" cy="535788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7e0e"/>
                </a:solidFill>
                <a:latin typeface="Arial"/>
              </a:rPr>
              <a:t>In 2016 pupils of "Magic Camp" showed his acting talant and level of English speech in contest "Ukrainian fairy-tale" and dance battles «Music Hits from English World» in regional competitions and took I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s://pp.userapi.com/c636920/v636920653/1029f/F4YgujVpFM0.jpg"/>
          <p:cNvPicPr/>
          <p:nvPr/>
        </p:nvPicPr>
        <p:blipFill>
          <a:blip r:embed="rId2"/>
          <a:stretch/>
        </p:blipFill>
        <p:spPr>
          <a:xfrm>
            <a:off x="1285920" y="0"/>
            <a:ext cx="3429000" cy="3357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s://pp.userapi.com/c636920/v636920653/1032f/TvV5IxP5HHM.jpg"/>
          <p:cNvPicPr/>
          <p:nvPr/>
        </p:nvPicPr>
        <p:blipFill>
          <a:blip r:embed="rId3"/>
          <a:stretch/>
        </p:blipFill>
        <p:spPr>
          <a:xfrm rot="153000">
            <a:off x="1428480" y="3428640"/>
            <a:ext cx="328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5520" y="3643200"/>
            <a:ext cx="3857400" cy="29289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24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217" name="Заголовок 1"/>
          <p:cNvSpPr/>
          <p:nvPr/>
        </p:nvSpPr>
        <p:spPr>
          <a:xfrm rot="16200000">
            <a:off x="-2750040" y="2750400"/>
            <a:ext cx="6858000" cy="13572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teacher of the Year –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Заголовок 1"/>
          <p:cNvSpPr/>
          <p:nvPr/>
        </p:nvSpPr>
        <p:spPr>
          <a:xfrm>
            <a:off x="4786200" y="0"/>
            <a:ext cx="4357800" cy="37861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2016 I participated in contest “The teacher of the Year - 2016"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ok the III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http://ptl-nn.ru/media/English2.jpg"/>
          <p:cNvPicPr/>
          <p:nvPr/>
        </p:nvPicPr>
        <p:blipFill>
          <a:blip r:embed="rId2"/>
          <a:stretch/>
        </p:blipFill>
        <p:spPr>
          <a:xfrm>
            <a:off x="1357200" y="285840"/>
            <a:ext cx="3429000" cy="6572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http://vologda-portal.ru/upload/iblock/e17/english.jpg"/>
          <p:cNvPicPr/>
          <p:nvPr/>
        </p:nvPicPr>
        <p:blipFill>
          <a:blip r:embed="rId3"/>
          <a:stretch/>
        </p:blipFill>
        <p:spPr>
          <a:xfrm>
            <a:off x="4786200" y="3786120"/>
            <a:ext cx="4357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72040" y="4387680"/>
            <a:ext cx="3828960" cy="13878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70c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285840" y="285840"/>
            <a:ext cx="8858160" cy="78588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very day life</a:t>
            </a:r>
            <a:r>
              <a:rPr b="1" i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Рисунок 8" descr="C:\Users\alex\Desktop\DSCN1930.JPG"/>
          <p:cNvPicPr/>
          <p:nvPr/>
        </p:nvPicPr>
        <p:blipFill>
          <a:blip r:embed="rId1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http://cs628125.vk.me/v628125234/2d67e/UIDUOSnyTeY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6" descr="F:\урок\IMG_5207.jpg"/>
          <p:cNvPicPr/>
          <p:nvPr/>
        </p:nvPicPr>
        <p:blipFill>
          <a:blip r:embed="rId3"/>
          <a:stretch/>
        </p:blipFill>
        <p:spPr>
          <a:xfrm>
            <a:off x="428760" y="4071960"/>
            <a:ext cx="2714400" cy="27860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1" descr="F:\урок\IMG_5257.jpg"/>
          <p:cNvPicPr/>
          <p:nvPr/>
        </p:nvPicPr>
        <p:blipFill>
          <a:blip r:embed="rId4"/>
          <a:stretch/>
        </p:blipFill>
        <p:spPr>
          <a:xfrm>
            <a:off x="357120" y="100008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7" descr="http://cs629331.vk.me/v629331212/148e6/i0FcHbR8W-Q.jpg"/>
          <p:cNvPicPr/>
          <p:nvPr/>
        </p:nvPicPr>
        <p:blipFill>
          <a:blip r:embed="rId5"/>
          <a:stretch/>
        </p:blipFill>
        <p:spPr>
          <a:xfrm>
            <a:off x="3143160" y="4071960"/>
            <a:ext cx="3357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s://im2-tub-ua.yandex.net/i?id=205c527ef3f48f0213b5ddcb21b6e77b&amp;n=33&amp;h=190&amp;w=265"/>
          <p:cNvPicPr/>
          <p:nvPr/>
        </p:nvPicPr>
        <p:blipFill>
          <a:blip r:embed="rId1"/>
          <a:stretch/>
        </p:blipFill>
        <p:spPr>
          <a:xfrm>
            <a:off x="571680" y="2714760"/>
            <a:ext cx="8072280" cy="33573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214200" y="785880"/>
            <a:ext cx="835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9315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6:57:11Z</dcterms:created>
  <dc:creator>Алла</dc:creator>
  <dc:description/>
  <dc:language>en-US</dc:language>
  <cp:lastModifiedBy>Kalinichenko</cp:lastModifiedBy>
  <dcterms:modified xsi:type="dcterms:W3CDTF">2017-03-23T18:20:18Z</dcterms:modified>
  <cp:revision>136</cp:revision>
  <dc:subject/>
  <dc:title>Розвиток пізнавального інтересу учнів  на уроках географії</dc:title>
</cp:coreProperties>
</file>