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1B7-FF9C-4710-B803-A71CC8B8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42B-7A18-434B-AF48-50C7F3D1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F5F-0B9F-4AB0-BA5A-9934975F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DF0-CE77-4C1E-9719-1EB8FF37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604F-F079-4E5A-A070-5D75CE89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1696-9F8F-41CD-ABD3-5FE52483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9126-B20B-403E-897D-75A35A6B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B4DB-3526-43AF-B2BF-BFDCD9E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ED81-7273-4217-B7CC-CF06BA39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0B82-70E0-465A-B783-937EF4CA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3017-432C-4DDC-92DD-B55992B4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3C5-D9E8-4427-9DAB-C616CB67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D67C-A6DF-4E81-B360-B1AAF1D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8963-1D08-4D1F-B524-692B3073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F995-E346-49E9-9451-262FE2A6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4924-9BD2-42EE-96AE-8A48CBD2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C42E-142B-4E36-9FEB-5A809530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59ED-7285-430A-B1DC-3025057A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4AE5-D00C-403A-B546-7F649A9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F4E6-7793-46A0-8AF7-71E90105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C4D4-6BA9-4A9E-9BB8-CA93CE3A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C285-5EAF-4A2C-9C08-2B75A7D6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04C-7B48-4644-B5DB-2755E09D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D779-8E47-4C53-BD41-0854A8DD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D613-F6A6-4C8A-8ED1-BB536F7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8AD3-B1E2-4927-A803-6655376C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4F80-3EEE-4C60-8BD3-A20E1FE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4B62-4115-44C2-9B32-D64DE93E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172A-7AD3-4B9E-AC00-632879C0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F3D2-81D9-47BE-B868-7C4D365D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8BF3-0FA1-4603-9D84-B3E44C54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3980-9E42-4FF8-8297-4A8D420B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5AEA8-B514-4B95-8070-866165AB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35C-F70E-4040-A527-B67DB00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F88DE-C11B-420B-B5BA-895A785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A9BC-BA2B-4D71-A70E-270302A6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D528-2E44-454F-88A1-F525DECC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4579-90D3-4448-83ED-031C9670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8F11-79B4-456C-BF41-03F6631E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D01BF-AE4C-4C8B-9448-24A37BDE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056E-7E5B-48E7-A37E-6E251CE4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3C00-7C1D-457F-B0C6-701D6046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9C76-F9F0-42FB-B365-F5BABDAE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5A3-0B46-4D8F-BF5D-CC0E2095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FA1-2E89-4E46-9E82-D0EC4B5E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77F-CA79-4207-BF6B-F51934D9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DF3-CA5C-4923-8A52-16F864DC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FC6-34CB-41AF-A6AA-528E02F3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1D66-40CD-49F3-BB46-1C3BDEE505B0}" type="slidenum"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5437-CA02-4AB6-89ED-D5649711710B}" type="slidenum"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B847-431C-4C5D-BB25-EC45194AB195}" type="slidenum"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A846-3F27-4649-B9A4-99EDC26D3A35}" type="slidenum"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19080" y="2541600"/>
            <a:ext cx="9169560" cy="1079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499840" y="1928520"/>
            <a:ext cx="3714840" cy="450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ina Viktorivna Kalinichenk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alis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9315"/>
                </a:solidFill>
                <a:latin typeface="Times New Roman"/>
                <a:ea typeface="Times New Roman"/>
              </a:rPr>
              <a:t>Graduated from Kharkiv Pedagogical </a:t>
            </a:r>
            <a:r>
              <a:rPr b="1" lang="uk-UA" sz="1800" spc="-1" strike="noStrike">
                <a:solidFill>
                  <a:srgbClr val="b79315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b79315"/>
                </a:solidFill>
                <a:latin typeface="Times New Roman"/>
                <a:ea typeface="Times New Roman"/>
              </a:rPr>
              <a:t>University named by G.S. Skovoroda in 2012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glish teacher in Malodanylivskyy Lyceum since 201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uk-U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Подзаголовок 2"/>
          <p:cNvSpPr/>
          <p:nvPr/>
        </p:nvSpPr>
        <p:spPr>
          <a:xfrm rot="16200000">
            <a:off x="-3214440" y="3071160"/>
            <a:ext cx="7000920" cy="57168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214280" y="285840"/>
            <a:ext cx="66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rgachi district state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partment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lodanylivskyy Lyc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E:\учитель року 2015 3\урок\IMG_5200.jpg"/>
          <p:cNvPicPr/>
          <p:nvPr/>
        </p:nvPicPr>
        <p:blipFill>
          <a:blip r:embed="rId2"/>
          <a:stretch/>
        </p:blipFill>
        <p:spPr>
          <a:xfrm>
            <a:off x="6357960" y="2000160"/>
            <a:ext cx="2571840" cy="425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http://www.doskaurala.ru/orimg/45342-1.jpg"/>
          <p:cNvPicPr/>
          <p:nvPr/>
        </p:nvPicPr>
        <p:blipFill>
          <a:blip r:embed="rId3"/>
          <a:stretch/>
        </p:blipFill>
        <p:spPr>
          <a:xfrm>
            <a:off x="357120" y="3571920"/>
            <a:ext cx="1928880" cy="2714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Герб Дергачей"/>
          <p:cNvPicPr/>
          <p:nvPr/>
        </p:nvPicPr>
        <p:blipFill>
          <a:blip r:embed="rId4"/>
          <a:stretch/>
        </p:blipFill>
        <p:spPr>
          <a:xfrm>
            <a:off x="571680" y="714240"/>
            <a:ext cx="1714320" cy="1071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Герб Лицей"/>
          <p:cNvPicPr/>
          <p:nvPr/>
        </p:nvPicPr>
        <p:blipFill>
          <a:blip r:embed="rId5"/>
          <a:stretch/>
        </p:blipFill>
        <p:spPr>
          <a:xfrm>
            <a:off x="7072200" y="714240"/>
            <a:ext cx="18716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The topic of self-education: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153a1"/>
                </a:solidFill>
                <a:latin typeface="Constantia"/>
              </a:rPr>
              <a:t>“</a:t>
            </a:r>
            <a:r>
              <a:rPr b="0" i="1" lang="en-US" sz="2800" spc="-1" strike="noStrike">
                <a:solidFill>
                  <a:srgbClr val="7153a1"/>
                </a:solidFill>
                <a:latin typeface="Constantia"/>
              </a:rPr>
              <a:t>The developing of dialogical skills as a means of successfully upgrading of education in a  system of informal teacher’s work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ww.mir-konkursov.ru/userfiles/229.jpg"/>
          <p:cNvPicPr/>
          <p:nvPr/>
        </p:nvPicPr>
        <p:blipFill>
          <a:blip r:embed="rId1"/>
          <a:stretch/>
        </p:blipFill>
        <p:spPr>
          <a:xfrm>
            <a:off x="0" y="3929040"/>
            <a:ext cx="9144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5520" y="3643200"/>
            <a:ext cx="3857400" cy="29289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2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07" name="Заголовок 1"/>
          <p:cNvSpPr/>
          <p:nvPr/>
        </p:nvSpPr>
        <p:spPr>
          <a:xfrm rot="16200000">
            <a:off x="-2750040" y="2964600"/>
            <a:ext cx="6858000" cy="13572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7e0e"/>
                </a:solidFill>
                <a:latin typeface="Times New Roman"/>
              </a:rPr>
              <a:t>Research 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6" descr="http://cs622425.vk.me/v622425515/4bd4d/qkWyLPMHJgI.jpg"/>
          <p:cNvPicPr/>
          <p:nvPr/>
        </p:nvPicPr>
        <p:blipFill>
          <a:blip r:embed="rId2"/>
          <a:stretch/>
        </p:blipFill>
        <p:spPr>
          <a:xfrm>
            <a:off x="1357200" y="0"/>
            <a:ext cx="3929040" cy="3071880"/>
          </a:xfrm>
          <a:prstGeom prst="rect">
            <a:avLst/>
          </a:prstGeom>
          <a:ln w="0">
            <a:noFill/>
          </a:ln>
        </p:spPr>
      </p:pic>
      <p:sp>
        <p:nvSpPr>
          <p:cNvPr id="209" name="Заголовок 1"/>
          <p:cNvSpPr/>
          <p:nvPr/>
        </p:nvSpPr>
        <p:spPr>
          <a:xfrm>
            <a:off x="4786200" y="0"/>
            <a:ext cx="4357800" cy="68580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In 2014-20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Anna Mosinyan won the regional stage and become a member of MANwith research work on the topic “Physiological metaphor in political discourse" .In the 2015-2016 we continued work on the topic: "Innovations in the English language under the influence of the Interne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8" descr="http://cs622425.vk.me/v622425515/4bd61/UcrmLAoaqmA.jpg"/>
          <p:cNvPicPr/>
          <p:nvPr/>
        </p:nvPicPr>
        <p:blipFill>
          <a:blip r:embed="rId3"/>
          <a:stretch/>
        </p:blipFill>
        <p:spPr>
          <a:xfrm>
            <a:off x="1285920" y="3071880"/>
            <a:ext cx="3500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3643200"/>
            <a:ext cx="3857400" cy="29289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2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12" name="Заголовок 1"/>
          <p:cNvSpPr/>
          <p:nvPr/>
        </p:nvSpPr>
        <p:spPr>
          <a:xfrm rot="16200000">
            <a:off x="-2750040" y="2750400"/>
            <a:ext cx="6858000" cy="13572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d7e0e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dd7e0e"/>
                </a:solidFill>
                <a:latin typeface="Arial"/>
              </a:rPr>
              <a:t>Magic Camp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4786200" y="214200"/>
            <a:ext cx="4357800" cy="535788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7e0e"/>
                </a:solidFill>
                <a:latin typeface="Arial"/>
              </a:rPr>
              <a:t>In 2016 pupils of "Magic Camp" showed his acting talant and level of English speech in contest "Ukrainian fairy-tale" and dance battles «Music Hits from English World» in regional competitions and took I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s://pp.userapi.com/c636920/v636920653/1029f/F4YgujVpFM0.jpg"/>
          <p:cNvPicPr/>
          <p:nvPr/>
        </p:nvPicPr>
        <p:blipFill>
          <a:blip r:embed="rId2"/>
          <a:stretch/>
        </p:blipFill>
        <p:spPr>
          <a:xfrm>
            <a:off x="1285920" y="0"/>
            <a:ext cx="342900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s://pp.userapi.com/c636920/v636920653/1032f/TvV5IxP5HHM.jpg"/>
          <p:cNvPicPr/>
          <p:nvPr/>
        </p:nvPicPr>
        <p:blipFill>
          <a:blip r:embed="rId3"/>
          <a:stretch/>
        </p:blipFill>
        <p:spPr>
          <a:xfrm rot="153000">
            <a:off x="1428480" y="3428640"/>
            <a:ext cx="328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5520" y="3643200"/>
            <a:ext cx="3857400" cy="29289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2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17" name="Заголовок 1"/>
          <p:cNvSpPr/>
          <p:nvPr/>
        </p:nvSpPr>
        <p:spPr>
          <a:xfrm rot="16200000">
            <a:off x="-2750040" y="2750400"/>
            <a:ext cx="6858000" cy="13572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teacher of the Year –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Заголовок 1"/>
          <p:cNvSpPr/>
          <p:nvPr/>
        </p:nvSpPr>
        <p:spPr>
          <a:xfrm>
            <a:off x="4786200" y="0"/>
            <a:ext cx="4357800" cy="37861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2016 I participated in contest “The teacher of the Year - 2016"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ok the III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http://ptl-nn.ru/media/English2.jpg"/>
          <p:cNvPicPr/>
          <p:nvPr/>
        </p:nvPicPr>
        <p:blipFill>
          <a:blip r:embed="rId2"/>
          <a:stretch/>
        </p:blipFill>
        <p:spPr>
          <a:xfrm>
            <a:off x="1357200" y="285840"/>
            <a:ext cx="3429000" cy="6572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http://vologda-portal.ru/upload/iblock/e17/english.jpg"/>
          <p:cNvPicPr/>
          <p:nvPr/>
        </p:nvPicPr>
        <p:blipFill>
          <a:blip r:embed="rId3"/>
          <a:stretch/>
        </p:blipFill>
        <p:spPr>
          <a:xfrm>
            <a:off x="4786200" y="3786120"/>
            <a:ext cx="4357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2040" y="4387680"/>
            <a:ext cx="3828960" cy="13878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70c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285840" y="285840"/>
            <a:ext cx="8858160" cy="78588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very day life</a:t>
            </a:r>
            <a:r>
              <a:rPr b="1" i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Рисунок 8" descr="C:\Users\alex\Desktop\DSCN1930.JPG"/>
          <p:cNvPicPr/>
          <p:nvPr/>
        </p:nvPicPr>
        <p:blipFill>
          <a:blip r:embed="rId1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http://cs628125.vk.me/v628125234/2d67e/UIDUOSnyTeY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6" descr="F:\урок\IMG_5207.jpg"/>
          <p:cNvPicPr/>
          <p:nvPr/>
        </p:nvPicPr>
        <p:blipFill>
          <a:blip r:embed="rId3"/>
          <a:stretch/>
        </p:blipFill>
        <p:spPr>
          <a:xfrm>
            <a:off x="428760" y="4071960"/>
            <a:ext cx="2714400" cy="27860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1" descr="F:\урок\IMG_5257.jpg"/>
          <p:cNvPicPr/>
          <p:nvPr/>
        </p:nvPicPr>
        <p:blipFill>
          <a:blip r:embed="rId4"/>
          <a:stretch/>
        </p:blipFill>
        <p:spPr>
          <a:xfrm>
            <a:off x="357120" y="100008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7" descr="http://cs629331.vk.me/v629331212/148e6/i0FcHbR8W-Q.jpg"/>
          <p:cNvPicPr/>
          <p:nvPr/>
        </p:nvPicPr>
        <p:blipFill>
          <a:blip r:embed="rId5"/>
          <a:stretch/>
        </p:blipFill>
        <p:spPr>
          <a:xfrm>
            <a:off x="3143160" y="4071960"/>
            <a:ext cx="3357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s://im2-tub-ua.yandex.net/i?id=205c527ef3f48f0213b5ddcb21b6e77b&amp;n=33&amp;h=190&amp;w=265"/>
          <p:cNvPicPr/>
          <p:nvPr/>
        </p:nvPicPr>
        <p:blipFill>
          <a:blip r:embed="rId1"/>
          <a:stretch/>
        </p:blipFill>
        <p:spPr>
          <a:xfrm>
            <a:off x="571680" y="2714760"/>
            <a:ext cx="8072280" cy="33573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214200" y="785880"/>
            <a:ext cx="835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9315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6:57:11Z</dcterms:created>
  <dc:creator>Алла</dc:creator>
  <dc:description/>
  <dc:language>en-US</dc:language>
  <cp:lastModifiedBy>Kalinichenko</cp:lastModifiedBy>
  <dcterms:modified xsi:type="dcterms:W3CDTF">2017-03-23T18:20:18Z</dcterms:modified>
  <cp:revision>136</cp:revision>
  <dc:subject/>
  <dc:title>Розвиток пізнавального інтересу учнів  на уроках географії</dc:title>
</cp:coreProperties>
</file>