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9B9-5CD4-439B-A351-199D2D9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C8F-E2AD-41BA-A9ED-D12235C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F52-9370-410B-911E-ADB03B3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CA7-2285-4468-B91F-CC2CD0CE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E1EB-FF21-4C42-BF13-69D338E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42F3-3EF2-45EE-8FFC-AF03CC5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E6C-8408-4B4B-B05A-5F6FB3E0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F95-5DED-4BD4-9692-F6D610F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45FB-D0EF-4A77-9CEE-98B1596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3E74-CB56-400F-9A8E-5E44246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ABC6-B65E-4A1E-A990-3695549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F2D-F702-4D92-9627-5969367B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A8B-0D08-4986-BA69-3728FEE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0D4-9BD3-4C3D-A1F1-73A1106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0F58-A6DC-40AE-8378-C13BCB7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BE5-02D3-49A1-9A5C-E5208371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9B99-5EDD-4ADE-9C06-9FCD0047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7C4A-F66C-459A-8FD2-15804D21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310D-E939-4C62-8C6C-4BB5BCE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34F3-7192-4C2D-AE82-C2C2F73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0C4F-9B60-4E49-AF73-BEF54E2B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76AF-1FD2-4CCA-B7F1-1AECEA0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E34-77B1-4540-99A5-AAD748F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79F2-BE4F-46A5-9DD4-34B21294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00EF-0F62-471A-8EB7-D25D32C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CC17-41A2-4FE2-8B30-A3AA0C73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018B-0D70-4672-9B30-AD10DA3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EE90-99FF-4D15-AE10-BFF0202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4BAB-3FC1-4544-AC32-0DD5325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F357-BCEF-4BA2-838D-C1261345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E86B-C584-4A8A-803D-0418E89B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5024-BC9D-485D-B2C5-D96A6469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CAF89-25C8-4C3F-8D93-944EB1E8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06E-0855-470F-AFEC-CA9C5F9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D33B-DCE5-4217-A916-BBEC0D6F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7D28-994B-4DEF-95AD-8DCB8367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1E42-5BB5-4FA8-8DF2-999F39E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65AB-D20F-4E4C-817F-EC77F19D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E211-FD04-4FF6-93D0-B3702D3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0C53-FEE4-4D5C-ACA7-904B730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DB5D-CEA1-4408-8D2A-5F8A139A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218A-D19C-4974-B229-76DEEC0A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A78B-C4A1-421E-9C64-17C4FADA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4CC-7FAC-44C9-83D6-7085645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BAB-7419-4CC7-B2BD-6A0E7976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68F-1F9A-4EB5-ADA5-F64F456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734-E610-4570-803B-84B5C78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805-9928-4DD2-BBF2-F1BE650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A3E-DCE7-4A2F-A14E-6300742D3B4E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892-0B3D-4022-B38F-BC37D2BA038D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0E9-D758-4B11-9AD1-E4E2B43D2BAB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423-BC2F-4673-BA1A-089C410DC647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19080" y="2541600"/>
            <a:ext cx="916956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499840" y="1928520"/>
            <a:ext cx="371484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na Viktorivna Kalinichenk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is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Graduated from Kharkiv Pedagogical </a:t>
            </a:r>
            <a:r>
              <a:rPr b="1" lang="uk-UA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University named by G.S. Skovoroda in 2012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glish teacher in Malodanylivskyy Lyceum since 201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одзаголовок 2"/>
          <p:cNvSpPr/>
          <p:nvPr/>
        </p:nvSpPr>
        <p:spPr>
          <a:xfrm rot="16200000">
            <a:off x="-3214440" y="3071160"/>
            <a:ext cx="7000920" cy="5716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214280" y="28584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rgachi district state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lodanylivskyy Lyc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E:\учитель року 2015 3\урок\IMG_5200.jpg"/>
          <p:cNvPicPr/>
          <p:nvPr/>
        </p:nvPicPr>
        <p:blipFill>
          <a:blip r:embed="rId2"/>
          <a:stretch/>
        </p:blipFill>
        <p:spPr>
          <a:xfrm>
            <a:off x="6357960" y="2000160"/>
            <a:ext cx="2571840" cy="425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http://www.doskaurala.ru/orimg/45342-1.jpg"/>
          <p:cNvPicPr/>
          <p:nvPr/>
        </p:nvPicPr>
        <p:blipFill>
          <a:blip r:embed="rId3"/>
          <a:stretch/>
        </p:blipFill>
        <p:spPr>
          <a:xfrm>
            <a:off x="357120" y="3571920"/>
            <a:ext cx="1928880" cy="271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Герб Дергачей"/>
          <p:cNvPicPr/>
          <p:nvPr/>
        </p:nvPicPr>
        <p:blipFill>
          <a:blip r:embed="rId4"/>
          <a:stretch/>
        </p:blipFill>
        <p:spPr>
          <a:xfrm>
            <a:off x="571680" y="714240"/>
            <a:ext cx="1714320" cy="1071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Герб Лицей"/>
          <p:cNvPicPr/>
          <p:nvPr/>
        </p:nvPicPr>
        <p:blipFill>
          <a:blip r:embed="rId5"/>
          <a:stretch/>
        </p:blipFill>
        <p:spPr>
          <a:xfrm>
            <a:off x="7072200" y="714240"/>
            <a:ext cx="18716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The topic of self-education: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“</a:t>
            </a: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The developing of dialogical skills as a means of successfully upgrading of education in a  system of informal teacher’s work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mir-konkursov.ru/userfiles/229.jpg"/>
          <p:cNvPicPr/>
          <p:nvPr/>
        </p:nvPicPr>
        <p:blipFill>
          <a:blip r:embed="rId1"/>
          <a:stretch/>
        </p:blipFill>
        <p:spPr>
          <a:xfrm>
            <a:off x="0" y="392904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Заголовок 1"/>
          <p:cNvSpPr/>
          <p:nvPr/>
        </p:nvSpPr>
        <p:spPr>
          <a:xfrm rot="16200000">
            <a:off x="-2750040" y="29646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7e0e"/>
                </a:solidFill>
                <a:latin typeface="Times New Roman"/>
              </a:rPr>
              <a:t>Research 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6" descr="http://cs622425.vk.me/v622425515/4bd4d/qkWyLPMHJgI.jpg"/>
          <p:cNvPicPr/>
          <p:nvPr/>
        </p:nvPicPr>
        <p:blipFill>
          <a:blip r:embed="rId2"/>
          <a:stretch/>
        </p:blipFill>
        <p:spPr>
          <a:xfrm>
            <a:off x="1357200" y="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4786200" y="0"/>
            <a:ext cx="4357800" cy="6858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In 2014-20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Anna Mosinyan won the regional stage and become a member of MANwith research work on the topic “Physiological metaphor in political discourse" .In the 2015-2016 we continued work on the topic: "Innovations in the English language under the influence of the Interne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8" descr="http://cs622425.vk.me/v622425515/4bd61/UcrmLAoaqmA.jpg"/>
          <p:cNvPicPr/>
          <p:nvPr/>
        </p:nvPicPr>
        <p:blipFill>
          <a:blip r:embed="rId3"/>
          <a:stretch/>
        </p:blipFill>
        <p:spPr>
          <a:xfrm>
            <a:off x="1285920" y="3071880"/>
            <a:ext cx="3500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2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Magic Camp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4786200" y="214200"/>
            <a:ext cx="4357800" cy="53578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7e0e"/>
                </a:solidFill>
                <a:latin typeface="Arial"/>
              </a:rPr>
              <a:t>In 2016 pupils of "Magic Camp" showed his acting talant and level of English speech in contest "Ukrainian fairy-tale" and dance battles «Music Hits from English World» in regional competitions and took I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s://pp.userapi.com/c636920/v636920653/1029f/F4YgujVpFM0.jpg"/>
          <p:cNvPicPr/>
          <p:nvPr/>
        </p:nvPicPr>
        <p:blipFill>
          <a:blip r:embed="rId2"/>
          <a:stretch/>
        </p:blipFill>
        <p:spPr>
          <a:xfrm>
            <a:off x="1285920" y="0"/>
            <a:ext cx="342900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s://pp.userapi.com/c636920/v636920653/1032f/TvV5IxP5HHM.jpg"/>
          <p:cNvPicPr/>
          <p:nvPr/>
        </p:nvPicPr>
        <p:blipFill>
          <a:blip r:embed="rId3"/>
          <a:stretch/>
        </p:blipFill>
        <p:spPr>
          <a:xfrm rot="153000">
            <a:off x="1428480" y="34286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teacher of the Year –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4786200" y="0"/>
            <a:ext cx="4357800" cy="37861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2016 I participated in contest “The teacher of the Year - 2016"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ok the III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http://ptl-nn.ru/media/English2.jpg"/>
          <p:cNvPicPr/>
          <p:nvPr/>
        </p:nvPicPr>
        <p:blipFill>
          <a:blip r:embed="rId2"/>
          <a:stretch/>
        </p:blipFill>
        <p:spPr>
          <a:xfrm>
            <a:off x="1357200" y="285840"/>
            <a:ext cx="3429000" cy="6572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vologda-portal.ru/upload/iblock/e17/english.jpg"/>
          <p:cNvPicPr/>
          <p:nvPr/>
        </p:nvPicPr>
        <p:blipFill>
          <a:blip r:embed="rId3"/>
          <a:stretch/>
        </p:blipFill>
        <p:spPr>
          <a:xfrm>
            <a:off x="4786200" y="3786120"/>
            <a:ext cx="4357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2040" y="4387680"/>
            <a:ext cx="3828960" cy="13878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85840" y="285840"/>
            <a:ext cx="8858160" cy="7858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very day life</a:t>
            </a:r>
            <a:r>
              <a:rPr b="1" i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Рисунок 8" descr="C:\Users\alex\Desktop\DSCN1930.JPG"/>
          <p:cNvPicPr/>
          <p:nvPr/>
        </p:nvPicPr>
        <p:blipFill>
          <a:blip r:embed="rId1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http://cs628125.vk.me/v628125234/2d67e/UIDUOSnyTeY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6" descr="F:\урок\IMG_5207.jpg"/>
          <p:cNvPicPr/>
          <p:nvPr/>
        </p:nvPicPr>
        <p:blipFill>
          <a:blip r:embed="rId3"/>
          <a:stretch/>
        </p:blipFill>
        <p:spPr>
          <a:xfrm>
            <a:off x="428760" y="4071960"/>
            <a:ext cx="2714400" cy="2786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1" descr="F:\урок\IMG_5257.jpg"/>
          <p:cNvPicPr/>
          <p:nvPr/>
        </p:nvPicPr>
        <p:blipFill>
          <a:blip r:embed="rId4"/>
          <a:stretch/>
        </p:blipFill>
        <p:spPr>
          <a:xfrm>
            <a:off x="357120" y="100008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7" descr="http://cs629331.vk.me/v629331212/148e6/i0FcHbR8W-Q.jpg"/>
          <p:cNvPicPr/>
          <p:nvPr/>
        </p:nvPicPr>
        <p:blipFill>
          <a:blip r:embed="rId5"/>
          <a:stretch/>
        </p:blipFill>
        <p:spPr>
          <a:xfrm>
            <a:off x="3143160" y="4071960"/>
            <a:ext cx="3357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s://im2-tub-ua.yandex.net/i?id=205c527ef3f48f0213b5ddcb21b6e77b&amp;n=33&amp;h=190&amp;w=265"/>
          <p:cNvPicPr/>
          <p:nvPr/>
        </p:nvPicPr>
        <p:blipFill>
          <a:blip r:embed="rId1"/>
          <a:stretch/>
        </p:blipFill>
        <p:spPr>
          <a:xfrm>
            <a:off x="571680" y="2714760"/>
            <a:ext cx="8072280" cy="3357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214200" y="785880"/>
            <a:ext cx="835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9315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6:57:11Z</dcterms:created>
  <dc:creator>Алла</dc:creator>
  <dc:description/>
  <dc:language>en-US</dc:language>
  <cp:lastModifiedBy>Kalinichenko</cp:lastModifiedBy>
  <dcterms:modified xsi:type="dcterms:W3CDTF">2017-03-23T18:20:18Z</dcterms:modified>
  <cp:revision>136</cp:revision>
  <dc:subject/>
  <dc:title>Розвиток пізнавального інтересу учнів  на уроках географії</dc:title>
</cp:coreProperties>
</file>