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1.gif" ContentType="image/gif"/>
  <Override PartName="/ppt/media/image6.png" ContentType="image/png"/>
  <Override PartName="/ppt/media/image11.png" ContentType="image/png"/>
  <Override PartName="/ppt/media/image33.gif" ContentType="image/gif"/>
  <Override PartName="/ppt/media/image4.png" ContentType="image/png"/>
  <Override PartName="/ppt/media/image3.png" ContentType="image/png"/>
  <Override PartName="/ppt/media/image8.png" ContentType="image/png"/>
  <Override PartName="/ppt/media/image28.gif" ContentType="image/gif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F61-0AFD-4669-9769-E26E9B90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C65-118C-4597-B7EC-3820F82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937-5F8D-4592-896C-CD0FBB74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7EA-955D-41C4-8ACA-85664D2F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9F1-4EBC-4F61-A063-EBF9B20C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A060-A43A-4707-A746-D13DF68F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9E79-1A42-4A8F-92D2-9688F6E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422D-51FF-4F25-AF62-864531B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F2D5-8BF3-41C8-8D5D-25011A7C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8FA1-F4A8-4214-8436-9B3FE50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9647-E4AB-4381-8FEC-A7B7394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071-61FD-40BE-9096-CC76CF6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E6D-5C24-4DB1-99E3-527B36E6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26A-9722-4E4D-878B-A01E14B7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2B7-E42F-4CE2-926C-0BD0302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CEFA-B8B8-42B0-B0BE-35BA9AA6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FF2E-5FFC-4463-90A8-99BA11A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B88-FCD3-4F78-94A1-78C0CA7B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D2C-AC2E-4CFC-BF3F-15A9B690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E29-CF6B-4DF1-9A0A-8EFEBA9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95B-C699-415E-81DC-D9599885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F36-93E7-4FB5-95F6-C34D5C4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825-AD8A-45A3-BDE8-CC821AD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2DF-E78C-40B4-9337-0CE97E6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815-5429-4B90-99C5-3B03432ED6D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658-546E-4570-A39E-FED9C99320B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2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4572000" y="10922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Фоміць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Людм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Вікторі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681360" y="4091040"/>
            <a:ext cx="5554800" cy="2475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304920" y="390600"/>
            <a:ext cx="3475080" cy="799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75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7"/>
          <p:cNvGrpSpPr/>
          <p:nvPr/>
        </p:nvGrpSpPr>
        <p:grpSpPr>
          <a:xfrm>
            <a:off x="468000" y="189000"/>
            <a:ext cx="8199360" cy="6479280"/>
            <a:chOff x="468000" y="189000"/>
            <a:chExt cx="8199360" cy="6479280"/>
          </a:xfrm>
        </p:grpSpPr>
        <p:sp>
          <p:nvSpPr>
            <p:cNvPr id="164" name="_s3076"/>
            <p:cNvSpPr/>
            <p:nvPr/>
          </p:nvSpPr>
          <p:spPr>
            <a:xfrm flipH="1" flipV="1">
              <a:off x="2843280" y="2708280"/>
              <a:ext cx="57672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7"/>
            <p:cNvSpPr/>
            <p:nvPr/>
          </p:nvSpPr>
          <p:spPr>
            <a:xfrm>
              <a:off x="3347640" y="189000"/>
              <a:ext cx="2505960" cy="242604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78"/>
            <p:cNvSpPr/>
            <p:nvPr/>
          </p:nvSpPr>
          <p:spPr>
            <a:xfrm flipH="1">
              <a:off x="3347640" y="4797360"/>
              <a:ext cx="43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9"/>
            <p:cNvSpPr/>
            <p:nvPr/>
          </p:nvSpPr>
          <p:spPr>
            <a:xfrm>
              <a:off x="756000" y="4221000"/>
              <a:ext cx="2625480" cy="2447280"/>
            </a:xfrm>
            <a:prstGeom prst="ellipse">
              <a:avLst/>
            </a:prstGeom>
            <a:gradFill rotWithShape="0">
              <a:gsLst>
                <a:gs pos="0">
                  <a:srgbClr val="5b9bd5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80"/>
            <p:cNvSpPr/>
            <p:nvPr/>
          </p:nvSpPr>
          <p:spPr>
            <a:xfrm>
              <a:off x="5147640" y="4797360"/>
              <a:ext cx="43164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1"/>
            <p:cNvSpPr/>
            <p:nvPr/>
          </p:nvSpPr>
          <p:spPr>
            <a:xfrm>
              <a:off x="5579640" y="4221000"/>
              <a:ext cx="2592000" cy="2447280"/>
            </a:xfrm>
            <a:prstGeom prst="ellipse">
              <a:avLst/>
            </a:prstGeom>
            <a:gradFill rotWithShape="0">
              <a:gsLst>
                <a:gs pos="0">
                  <a:srgbClr val="ed7d3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2"/>
            <p:cNvSpPr/>
            <p:nvPr/>
          </p:nvSpPr>
          <p:spPr>
            <a:xfrm flipV="1">
              <a:off x="5724360" y="2923560"/>
              <a:ext cx="57600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3"/>
            <p:cNvSpPr/>
            <p:nvPr/>
          </p:nvSpPr>
          <p:spPr>
            <a:xfrm>
              <a:off x="6156360" y="1197720"/>
              <a:ext cx="2511000" cy="237456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100000">
                  <a:srgbClr val="ffebfa"/>
                </a:gs>
              </a:gsLst>
              <a:lin ang="5400000"/>
            </a:gra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84"/>
            <p:cNvSpPr/>
            <p:nvPr/>
          </p:nvSpPr>
          <p:spPr>
            <a:xfrm flipV="1">
              <a:off x="4571280" y="263628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85"/>
            <p:cNvSpPr/>
            <p:nvPr/>
          </p:nvSpPr>
          <p:spPr>
            <a:xfrm>
              <a:off x="468000" y="1197720"/>
              <a:ext cx="2447280" cy="237636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86"/>
            <p:cNvSpPr/>
            <p:nvPr/>
          </p:nvSpPr>
          <p:spPr>
            <a:xfrm>
              <a:off x="3058560" y="2781000"/>
              <a:ext cx="2953080" cy="2101320"/>
            </a:xfrm>
            <a:prstGeom prst="ellipse">
              <a:avLst/>
            </a:prstGeom>
            <a:gradFill rotWithShape="0">
              <a:gsLst>
                <a:gs pos="0">
                  <a:srgbClr val="ffb4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b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САМООСВІТ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ДІЯЛЬН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5" descr=""/>
            <p:cNvPicPr/>
            <p:nvPr/>
          </p:nvPicPr>
          <p:blipFill>
            <a:blip r:embed="rId1"/>
            <a:stretch/>
          </p:blipFill>
          <p:spPr>
            <a:xfrm>
              <a:off x="3850200" y="5374080"/>
              <a:ext cx="12254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20"/>
          <p:cNvSpPr/>
          <p:nvPr/>
        </p:nvSpPr>
        <p:spPr>
          <a:xfrm>
            <a:off x="755640" y="1700280"/>
            <a:ext cx="18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Науково-дослідницька робота за проблем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042920" y="4653000"/>
            <a:ext cx="201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наукової, методичної та навчальної літ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156360" y="1557360"/>
            <a:ext cx="252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Участь у колективних і групових формах методичної             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3564000" y="836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досвіду своїх ко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5651640" y="4653000"/>
            <a:ext cx="244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Теоретична робота і практична апробація особистих матеріа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4" descr="6a00e550d890wi"/>
          <p:cNvPicPr/>
          <p:nvPr/>
        </p:nvPicPr>
        <p:blipFill>
          <a:blip r:embed="rId2"/>
          <a:stretch/>
        </p:blipFill>
        <p:spPr>
          <a:xfrm>
            <a:off x="7753320" y="343836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6a00e550d890wi"/>
          <p:cNvPicPr/>
          <p:nvPr/>
        </p:nvPicPr>
        <p:blipFill>
          <a:blip r:embed="rId3"/>
          <a:stretch/>
        </p:blipFill>
        <p:spPr>
          <a:xfrm>
            <a:off x="69840" y="5764320"/>
            <a:ext cx="1324080" cy="1011240"/>
          </a:xfrm>
          <a:prstGeom prst="rect">
            <a:avLst/>
          </a:prstGeom>
          <a:ln w="0">
            <a:noFill/>
          </a:ln>
        </p:spPr>
      </p:pic>
      <p:sp>
        <p:nvSpPr>
          <p:cNvPr id="183" name="Овал 1"/>
          <p:cNvSpPr/>
          <p:nvPr/>
        </p:nvSpPr>
        <p:spPr>
          <a:xfrm>
            <a:off x="3089160" y="2860560"/>
            <a:ext cx="2880000" cy="19432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ЕФОРМ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ОСВІ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Diagram 7"/>
          <p:cNvGrpSpPr/>
          <p:nvPr/>
        </p:nvGrpSpPr>
        <p:grpSpPr>
          <a:xfrm>
            <a:off x="250200" y="0"/>
            <a:ext cx="8002800" cy="6602760"/>
            <a:chOff x="250200" y="0"/>
            <a:chExt cx="8002800" cy="6602760"/>
          </a:xfrm>
        </p:grpSpPr>
        <p:sp>
          <p:nvSpPr>
            <p:cNvPr id="185" name="_s4100"/>
            <p:cNvSpPr/>
            <p:nvPr/>
          </p:nvSpPr>
          <p:spPr>
            <a:xfrm flipH="1" flipV="1">
              <a:off x="3057840" y="2420280"/>
              <a:ext cx="64908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4101"/>
            <p:cNvSpPr/>
            <p:nvPr/>
          </p:nvSpPr>
          <p:spPr>
            <a:xfrm>
              <a:off x="1331280" y="764640"/>
              <a:ext cx="2003760" cy="1971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4102"/>
            <p:cNvSpPr/>
            <p:nvPr/>
          </p:nvSpPr>
          <p:spPr>
            <a:xfrm flipH="1">
              <a:off x="2700000" y="3573720"/>
              <a:ext cx="7916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4103"/>
            <p:cNvSpPr/>
            <p:nvPr/>
          </p:nvSpPr>
          <p:spPr>
            <a:xfrm>
              <a:off x="826920" y="3067920"/>
              <a:ext cx="1945440" cy="1864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4104"/>
            <p:cNvSpPr/>
            <p:nvPr/>
          </p:nvSpPr>
          <p:spPr>
            <a:xfrm flipH="1">
              <a:off x="377928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05"/>
            <p:cNvSpPr/>
            <p:nvPr/>
          </p:nvSpPr>
          <p:spPr>
            <a:xfrm>
              <a:off x="2268360" y="4507920"/>
              <a:ext cx="2015640" cy="2087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06"/>
            <p:cNvSpPr/>
            <p:nvPr/>
          </p:nvSpPr>
          <p:spPr>
            <a:xfrm>
              <a:off x="500364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107"/>
            <p:cNvSpPr/>
            <p:nvPr/>
          </p:nvSpPr>
          <p:spPr>
            <a:xfrm>
              <a:off x="4644360" y="4580280"/>
              <a:ext cx="1977120" cy="20224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08"/>
            <p:cNvSpPr/>
            <p:nvPr/>
          </p:nvSpPr>
          <p:spPr>
            <a:xfrm>
              <a:off x="5866560" y="3644640"/>
              <a:ext cx="587160" cy="13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9"/>
            <p:cNvSpPr/>
            <p:nvPr/>
          </p:nvSpPr>
          <p:spPr>
            <a:xfrm>
              <a:off x="6372720" y="3142080"/>
              <a:ext cx="1873080" cy="1869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4110"/>
            <p:cNvSpPr/>
            <p:nvPr/>
          </p:nvSpPr>
          <p:spPr>
            <a:xfrm flipV="1">
              <a:off x="5723640" y="2419920"/>
              <a:ext cx="470520" cy="39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11"/>
            <p:cNvSpPr/>
            <p:nvPr/>
          </p:nvSpPr>
          <p:spPr>
            <a:xfrm>
              <a:off x="5940720" y="764640"/>
              <a:ext cx="2088360" cy="1984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4112"/>
            <p:cNvSpPr/>
            <p:nvPr/>
          </p:nvSpPr>
          <p:spPr>
            <a:xfrm flipV="1">
              <a:off x="4644360" y="2061360"/>
              <a:ext cx="1440" cy="63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4113"/>
            <p:cNvSpPr/>
            <p:nvPr/>
          </p:nvSpPr>
          <p:spPr>
            <a:xfrm>
              <a:off x="3634920" y="115560"/>
              <a:ext cx="2111400" cy="1973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14"/>
            <p:cNvSpPr/>
            <p:nvPr/>
          </p:nvSpPr>
          <p:spPr>
            <a:xfrm>
              <a:off x="3202920" y="2349720"/>
              <a:ext cx="2737440" cy="22305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"/>
            <p:cNvPicPr/>
            <p:nvPr/>
          </p:nvPicPr>
          <p:blipFill>
            <a:blip r:embed="rId9"/>
            <a:stretch/>
          </p:blipFill>
          <p:spPr>
            <a:xfrm>
              <a:off x="7597080" y="5877360"/>
              <a:ext cx="6559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3" descr=""/>
            <p:cNvPicPr/>
            <p:nvPr/>
          </p:nvPicPr>
          <p:blipFill>
            <a:blip r:embed="rId10"/>
            <a:stretch/>
          </p:blipFill>
          <p:spPr>
            <a:xfrm>
              <a:off x="250200" y="0"/>
              <a:ext cx="1162080" cy="116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WordArt 24"/>
          <p:cNvSpPr txBox="1"/>
          <p:nvPr/>
        </p:nvSpPr>
        <p:spPr>
          <a:xfrm>
            <a:off x="3635280" y="2816280"/>
            <a:ext cx="189396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апрямк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ЕФОРМАЛЬНОЇ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СВІТ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258920" y="119700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законодавчої та нормативно-правової ба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3780000" y="54936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Науково-теоретична та методична пі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6084720" y="1341360"/>
            <a:ext cx="18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Методичні питання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443640" y="342900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сихолого-педагогічні основи            навчання та вихо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4788000" y="508464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передового педагогічного досві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2411280" y="5075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Основи педагогічного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900000" y="3357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ідвищення етико-естетичного рівня,      куль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>
            <a:off x="1116000" y="189000"/>
            <a:ext cx="691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Форми представлення результату неформальної осві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971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10"/>
          <p:cNvGrpSpPr/>
          <p:nvPr/>
        </p:nvGrpSpPr>
        <p:grpSpPr>
          <a:xfrm>
            <a:off x="963720" y="762120"/>
            <a:ext cx="2388960" cy="725400"/>
            <a:chOff x="963720" y="762120"/>
            <a:chExt cx="2388960" cy="725400"/>
          </a:xfrm>
        </p:grpSpPr>
        <p:pic>
          <p:nvPicPr>
            <p:cNvPr id="213" name="AutoShape 10" descr=""/>
            <p:cNvPicPr/>
            <p:nvPr/>
          </p:nvPicPr>
          <p:blipFill>
            <a:blip r:embed="rId1"/>
            <a:stretch/>
          </p:blipFill>
          <p:spPr>
            <a:xfrm>
              <a:off x="963720" y="762120"/>
              <a:ext cx="2388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062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11"/>
          <p:cNvGrpSpPr/>
          <p:nvPr/>
        </p:nvGrpSpPr>
        <p:grpSpPr>
          <a:xfrm>
            <a:off x="3413160" y="762120"/>
            <a:ext cx="2390760" cy="725400"/>
            <a:chOff x="3413160" y="762120"/>
            <a:chExt cx="2390760" cy="725400"/>
          </a:xfrm>
        </p:grpSpPr>
        <p:pic>
          <p:nvPicPr>
            <p:cNvPr id="216" name="AutoShape 11" descr=""/>
            <p:cNvPicPr/>
            <p:nvPr/>
          </p:nvPicPr>
          <p:blipFill>
            <a:blip r:embed="rId2"/>
            <a:stretch/>
          </p:blipFill>
          <p:spPr>
            <a:xfrm>
              <a:off x="3413160" y="762120"/>
              <a:ext cx="2390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510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12"/>
          <p:cNvGrpSpPr/>
          <p:nvPr/>
        </p:nvGrpSpPr>
        <p:grpSpPr>
          <a:xfrm>
            <a:off x="5864400" y="762120"/>
            <a:ext cx="2384280" cy="725400"/>
            <a:chOff x="5864400" y="762120"/>
            <a:chExt cx="2384280" cy="725400"/>
          </a:xfrm>
        </p:grpSpPr>
        <p:pic>
          <p:nvPicPr>
            <p:cNvPr id="219" name="AutoShape 12" descr=""/>
            <p:cNvPicPr/>
            <p:nvPr/>
          </p:nvPicPr>
          <p:blipFill>
            <a:blip r:embed="rId3"/>
            <a:stretch/>
          </p:blipFill>
          <p:spPr>
            <a:xfrm>
              <a:off x="5864400" y="762120"/>
              <a:ext cx="2384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958000" y="855720"/>
              <a:ext cx="21952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3"/>
          <p:cNvSpPr/>
          <p:nvPr/>
        </p:nvSpPr>
        <p:spPr>
          <a:xfrm>
            <a:off x="3419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867280" y="1700280"/>
            <a:ext cx="237672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042920" y="9079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ради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419640" y="907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Іннова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940360" y="76500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ауково-методичні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971640" y="1700280"/>
            <a:ext cx="2376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Доповідь; виступ на семінарі; виступ на педагогічні раді; виступ на засіданні методичного об’єднання; дидактичний матеріал; розробка тематичних класних годин, батьківських зборів чи позакласних заходів; розробка пакету олімпіадного матеріалу для підготовки учнів; база даних питань і задач з предмета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9"/>
          <p:cNvSpPr/>
          <p:nvPr/>
        </p:nvSpPr>
        <p:spPr>
          <a:xfrm>
            <a:off x="169236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4140360" y="1484280"/>
            <a:ext cx="86328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665964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419640" y="1773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Проект; розробка електронних уроків, посібників тощо; створення особистої методичної чи предметної web-сторінки; створення електронної бібліотеки творів художньої літератури згідно програм тощо</a:t>
            </a: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867280" y="1844640"/>
            <a:ext cx="2305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Навчальний посібник; стаття до фахового вид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методичний чи діагностичний кей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творчий звіт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1" descr="221"/>
          <p:cNvPicPr/>
          <p:nvPr/>
        </p:nvPicPr>
        <p:blipFill>
          <a:blip r:embed="rId4"/>
          <a:stretch/>
        </p:blipFill>
        <p:spPr>
          <a:xfrm>
            <a:off x="244440" y="3789360"/>
            <a:ext cx="704880" cy="137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6a00e550d890wi"/>
          <p:cNvPicPr/>
          <p:nvPr/>
        </p:nvPicPr>
        <p:blipFill>
          <a:blip r:embed="rId5"/>
          <a:stretch/>
        </p:blipFill>
        <p:spPr>
          <a:xfrm>
            <a:off x="23760" y="83340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6a00e550d890wi"/>
          <p:cNvPicPr/>
          <p:nvPr/>
        </p:nvPicPr>
        <p:blipFill>
          <a:blip r:embed="rId6"/>
          <a:stretch/>
        </p:blipFill>
        <p:spPr>
          <a:xfrm>
            <a:off x="3944880" y="568332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r2000_blue_growth_chart"/>
          <p:cNvPicPr/>
          <p:nvPr/>
        </p:nvPicPr>
        <p:blipFill>
          <a:blip r:embed="rId1"/>
          <a:srcRect l="9826" t="4711" r="8938" b="4271"/>
          <a:stretch/>
        </p:blipFill>
        <p:spPr>
          <a:xfrm>
            <a:off x="611280" y="1052640"/>
            <a:ext cx="8064360" cy="554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619268778"/>
          <p:cNvPicPr/>
          <p:nvPr/>
        </p:nvPicPr>
        <p:blipFill>
          <a:blip r:embed="rId2"/>
          <a:stretch/>
        </p:blipFill>
        <p:spPr>
          <a:xfrm rot="2878200">
            <a:off x="6659640" y="76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27"/>
          <p:cNvPicPr/>
          <p:nvPr/>
        </p:nvPicPr>
        <p:blipFill>
          <a:blip r:embed="rId3"/>
          <a:stretch/>
        </p:blipFill>
        <p:spPr>
          <a:xfrm>
            <a:off x="3348000" y="43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27"/>
          <p:cNvPicPr/>
          <p:nvPr/>
        </p:nvPicPr>
        <p:blipFill>
          <a:blip r:embed="rId4"/>
          <a:stretch/>
        </p:blipFill>
        <p:spPr>
          <a:xfrm>
            <a:off x="212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27"/>
          <p:cNvPicPr/>
          <p:nvPr/>
        </p:nvPicPr>
        <p:blipFill>
          <a:blip r:embed="rId5"/>
          <a:stretch/>
        </p:blipFill>
        <p:spPr>
          <a:xfrm>
            <a:off x="442764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27"/>
          <p:cNvPicPr/>
          <p:nvPr/>
        </p:nvPicPr>
        <p:blipFill>
          <a:blip r:embed="rId6"/>
          <a:stretch/>
        </p:blipFill>
        <p:spPr>
          <a:xfrm>
            <a:off x="5580000" y="285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27"/>
          <p:cNvPicPr/>
          <p:nvPr/>
        </p:nvPicPr>
        <p:blipFill>
          <a:blip r:embed="rId7"/>
          <a:stretch/>
        </p:blipFill>
        <p:spPr>
          <a:xfrm>
            <a:off x="6588000" y="1989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179280" y="479736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1187280" y="3933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91636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Прагну опану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3780000" y="234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643280" y="1341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, ділюся досві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4" descr="ANd9GcRRAUDtHJGcbhCnUEQlidRE4-f0bbI1DRihJ_w9Aq7lF8DYWX_e"/>
          <p:cNvPicPr/>
          <p:nvPr/>
        </p:nvPicPr>
        <p:blipFill>
          <a:blip r:embed="rId8"/>
          <a:stretch/>
        </p:blipFill>
        <p:spPr>
          <a:xfrm>
            <a:off x="684360" y="907920"/>
            <a:ext cx="1439640" cy="4143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26"/>
          <p:cNvSpPr txBox="1"/>
          <p:nvPr/>
        </p:nvSpPr>
        <p:spPr>
          <a:xfrm>
            <a:off x="1332000" y="260280"/>
            <a:ext cx="6943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2080d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ходинки до професіоналізм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2080d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9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3"/>
          <p:cNvSpPr/>
          <p:nvPr/>
        </p:nvSpPr>
        <p:spPr>
          <a:xfrm>
            <a:off x="179280" y="189000"/>
            <a:ext cx="8785440" cy="6510240"/>
          </a:xfrm>
          <a:prstGeom prst="foldedCorner">
            <a:avLst>
              <a:gd name="adj" fmla="val 19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3851280" y="260280"/>
            <a:ext cx="4976640" cy="2808360"/>
          </a:xfrm>
          <a:custGeom>
            <a:avLst/>
            <a:gdLst>
              <a:gd name="textAreaLeft" fmla="*/ 685800 w 4976640"/>
              <a:gd name="textAreaRight" fmla="*/ 3936960 w 4976640"/>
              <a:gd name="textAreaTop" fmla="*/ 424080 h 2808360"/>
              <a:gd name="textAreaBottom" fmla="*/ 2254320 h 2808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г89"/>
          <p:cNvPicPr/>
          <p:nvPr/>
        </p:nvPicPr>
        <p:blipFill>
          <a:blip r:embed="rId1"/>
          <a:stretch/>
        </p:blipFill>
        <p:spPr>
          <a:xfrm rot="19375800">
            <a:off x="2627280" y="2133720"/>
            <a:ext cx="1190520" cy="666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4140360" y="692280"/>
            <a:ext cx="4537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Ніколи не залишайте                                                         Вашої самоосвітньої роботи і не забувайте, що, скільки би Ви  не вчились, скільки би не знали, знанням та освіті немає  ні кордонів, ні м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М.О. Рубакі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loud"/>
          <p:cNvSpPr/>
          <p:nvPr/>
        </p:nvSpPr>
        <p:spPr>
          <a:xfrm>
            <a:off x="684360" y="2968560"/>
            <a:ext cx="6335640" cy="3576600"/>
          </a:xfrm>
          <a:custGeom>
            <a:avLst/>
            <a:gdLst>
              <a:gd name="textAreaLeft" fmla="*/ 873000 w 6335640"/>
              <a:gd name="textAreaRight" fmla="*/ 5011920 w 6335640"/>
              <a:gd name="textAreaTop" fmla="*/ 540000 h 3576600"/>
              <a:gd name="textAreaBottom" fmla="*/ 2871000 h 3576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332000" y="3357720"/>
            <a:ext cx="5256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жди пам’ятайте слова Джимі Рона – всесвітньо відомого філософа бізнесу, який розробляв стратегії діяльності Coca-Cola, I.B.M., Xerox, General Motors і був особистим бізнес-тренером Білла Гейтса: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"Формальна освіта допоможе вам вижити, а самоосвіта приведе вас до успіх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4" descr="6a00e550d890wi"/>
          <p:cNvPicPr/>
          <p:nvPr/>
        </p:nvPicPr>
        <p:blipFill>
          <a:blip r:embed="rId2"/>
          <a:stretch/>
        </p:blipFill>
        <p:spPr>
          <a:xfrm>
            <a:off x="243000" y="564192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4" descr="6a00e550d890wi"/>
          <p:cNvPicPr/>
          <p:nvPr/>
        </p:nvPicPr>
        <p:blipFill>
          <a:blip r:embed="rId3"/>
          <a:stretch/>
        </p:blipFill>
        <p:spPr>
          <a:xfrm>
            <a:off x="7236000" y="3135240"/>
            <a:ext cx="132372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ыноска со стрелкой влево 27"/>
          <p:cNvSpPr/>
          <p:nvPr/>
        </p:nvSpPr>
        <p:spPr>
          <a:xfrm>
            <a:off x="4575240" y="5226120"/>
            <a:ext cx="4281480" cy="63972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4"/>
          <p:cNvSpPr/>
          <p:nvPr/>
        </p:nvSpPr>
        <p:spPr>
          <a:xfrm>
            <a:off x="449280" y="0"/>
            <a:ext cx="8280360" cy="1033560"/>
          </a:xfrm>
          <a:prstGeom prst="horizontalScroll">
            <a:avLst>
              <a:gd name="adj" fmla="val 12500"/>
            </a:avLst>
          </a:prstGeom>
          <a:solidFill>
            <a:srgbClr val="b4c7e7"/>
          </a:solidFill>
          <a:ln w="12600">
            <a:solidFill>
              <a:srgbClr val="684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5a11"/>
                </a:solidFill>
                <a:latin typeface="Monotype Corsiva"/>
              </a:rPr>
              <a:t>Загальні відом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-328680" y="95580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Дата народже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со стрелкой вверх 7"/>
          <p:cNvSpPr/>
          <p:nvPr/>
        </p:nvSpPr>
        <p:spPr>
          <a:xfrm rot="16200000">
            <a:off x="5622120" y="-1783800"/>
            <a:ext cx="417240" cy="6051600"/>
          </a:xfrm>
          <a:prstGeom prst="upArrowCallout">
            <a:avLst>
              <a:gd name="adj1" fmla="val 25002"/>
              <a:gd name="adj2" fmla="val 25000"/>
              <a:gd name="adj3" fmla="val 25046"/>
              <a:gd name="adj4" fmla="val 12141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226760" y="103356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Monotype Corsiva"/>
              </a:rPr>
              <a:t>10 червня 196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-75600" y="155880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Освіта: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 со стрелкой влево 10"/>
          <p:cNvSpPr/>
          <p:nvPr/>
        </p:nvSpPr>
        <p:spPr>
          <a:xfrm>
            <a:off x="1384200" y="1533600"/>
            <a:ext cx="7472520" cy="720720"/>
          </a:xfrm>
          <a:prstGeom prst="leftArrowCallout">
            <a:avLst>
              <a:gd name="adj1" fmla="val 13631"/>
              <a:gd name="adj2" fmla="val 25000"/>
              <a:gd name="adj3" fmla="val 25008"/>
              <a:gd name="adj4" fmla="val 9562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84520" y="154620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3300"/>
                </a:solidFill>
                <a:latin typeface="Monotype Corsiva"/>
              </a:rPr>
              <a:t>вища, Одеський державний педагогічний  інститут ім. К.Д.Ушинського за спеціальністю «Учитель початкових класів», 1995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-42480" y="22287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оса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ыноска со стрелкой влево 13"/>
          <p:cNvSpPr/>
          <p:nvPr/>
        </p:nvSpPr>
        <p:spPr>
          <a:xfrm>
            <a:off x="1341360" y="2367000"/>
            <a:ext cx="7515360" cy="338040"/>
          </a:xfrm>
          <a:prstGeom prst="leftArrowCallout">
            <a:avLst>
              <a:gd name="adj1" fmla="val 25002"/>
              <a:gd name="adj2" fmla="val 25000"/>
              <a:gd name="adj3" fmla="val 25011"/>
              <a:gd name="adj4" fmla="val 95754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380880" y="2260440"/>
            <a:ext cx="98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заступник директора з навчально-вихов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-197640" y="31352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Місце робо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 со стрелкой влево 17"/>
          <p:cNvSpPr/>
          <p:nvPr/>
        </p:nvSpPr>
        <p:spPr>
          <a:xfrm>
            <a:off x="2241720" y="2827440"/>
            <a:ext cx="6615000" cy="1174680"/>
          </a:xfrm>
          <a:prstGeom prst="leftArrowCallout">
            <a:avLst>
              <a:gd name="adj1" fmla="val 7093"/>
              <a:gd name="adj2" fmla="val 25000"/>
              <a:gd name="adj3" fmla="val 25002"/>
              <a:gd name="adj4" fmla="val 93365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2665440" y="2697120"/>
            <a:ext cx="594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Малоданилівський лі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Дергачівської районної рад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Харківської обла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носка со стрелкой влево 20"/>
          <p:cNvSpPr/>
          <p:nvPr/>
        </p:nvSpPr>
        <p:spPr>
          <a:xfrm>
            <a:off x="3139920" y="4100400"/>
            <a:ext cx="5724720" cy="45576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3152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-324000" y="400356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едагогічний ста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1"/>
          <p:cNvSpPr/>
          <p:nvPr/>
        </p:nvSpPr>
        <p:spPr>
          <a:xfrm>
            <a:off x="4804920" y="408456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8 ро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2"/>
          <p:cNvSpPr/>
          <p:nvPr/>
        </p:nvSpPr>
        <p:spPr>
          <a:xfrm>
            <a:off x="-109800" y="45831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атегорі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носка со стрелкой влево 24"/>
          <p:cNvSpPr/>
          <p:nvPr/>
        </p:nvSpPr>
        <p:spPr>
          <a:xfrm>
            <a:off x="1917720" y="4665600"/>
            <a:ext cx="6946920" cy="517680"/>
          </a:xfrm>
          <a:prstGeom prst="leftArrowCallout">
            <a:avLst>
              <a:gd name="adj1" fmla="val 25002"/>
              <a:gd name="adj2" fmla="val 25000"/>
              <a:gd name="adj3" fmla="val 24975"/>
              <a:gd name="adj4" fmla="val 93259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5"/>
          <p:cNvSpPr/>
          <p:nvPr/>
        </p:nvSpPr>
        <p:spPr>
          <a:xfrm>
            <a:off x="1135440" y="4592520"/>
            <a:ext cx="92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спеціаліст вищої категорії, «вчитель-методи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6"/>
          <p:cNvSpPr/>
          <p:nvPr/>
        </p:nvSpPr>
        <p:spPr>
          <a:xfrm>
            <a:off x="-572760" y="523080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урси підвищення кваліфікації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4"/>
          <p:cNvSpPr/>
          <p:nvPr/>
        </p:nvSpPr>
        <p:spPr>
          <a:xfrm>
            <a:off x="4920120" y="53071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КВНЗ ХАНО   2016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 со стрелкой влево 36"/>
          <p:cNvSpPr/>
          <p:nvPr/>
        </p:nvSpPr>
        <p:spPr>
          <a:xfrm>
            <a:off x="4575240" y="5956200"/>
            <a:ext cx="4281480" cy="50796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7"/>
          <p:cNvSpPr/>
          <p:nvPr/>
        </p:nvSpPr>
        <p:spPr>
          <a:xfrm>
            <a:off x="5805360" y="59720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9"/>
          <p:cNvSpPr/>
          <p:nvPr/>
        </p:nvSpPr>
        <p:spPr>
          <a:xfrm>
            <a:off x="-480240" y="59371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Стаж роботи на посад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25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9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25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25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1" name="Объект 2" descr=""/>
          <p:cNvPicPr/>
          <p:nvPr/>
        </p:nvPicPr>
        <p:blipFill>
          <a:blip r:embed="rId2"/>
          <a:stretch/>
        </p:blipFill>
        <p:spPr>
          <a:xfrm>
            <a:off x="304920" y="1822320"/>
            <a:ext cx="8400960" cy="43531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3"/>
          <a:stretch/>
        </p:blipFill>
        <p:spPr>
          <a:xfrm>
            <a:off x="596880" y="-85680"/>
            <a:ext cx="667548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4"/>
          <a:stretch/>
        </p:blipFill>
        <p:spPr>
          <a:xfrm>
            <a:off x="709560" y="4576680"/>
            <a:ext cx="2070000" cy="198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5" name="Объект 2" descr=""/>
          <p:cNvPicPr/>
          <p:nvPr/>
        </p:nvPicPr>
        <p:blipFill>
          <a:blip r:embed="rId2"/>
          <a:stretch/>
        </p:blipFill>
        <p:spPr>
          <a:xfrm>
            <a:off x="298440" y="1200240"/>
            <a:ext cx="8212320" cy="43527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291960"/>
            <a:ext cx="6491160" cy="14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>
            <a:off x="5580000" y="3789360"/>
            <a:ext cx="324324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73080"/>
            <a:ext cx="765000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872352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тя </a:t>
            </a:r>
            <a:r>
              <a:rPr b="1" lang="uk-UA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«неформальна освіта»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  <a:ea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науковцями як навчальна діяльність у після робочий час, що здійснюється у колі родини, друзів, колег і не передбачає попереднього планування та відповідної органі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ормальна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ві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чителя є необхідною умовою професійної діяльності педагога. Тому професійне зростання також можна назвати і пошуком свого шляху, набуттям власного голосу</a:t>
            </a:r>
            <a:r>
              <a:rPr b="1" lang="uk-UA" sz="3200" spc="-1" strike="noStrike">
                <a:solidFill>
                  <a:srgbClr val="0033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Diagram 24"/>
          <p:cNvGrpSpPr/>
          <p:nvPr/>
        </p:nvGrpSpPr>
        <p:grpSpPr>
          <a:xfrm>
            <a:off x="155520" y="189360"/>
            <a:ext cx="8810280" cy="6416640"/>
            <a:chOff x="155520" y="189360"/>
            <a:chExt cx="8810280" cy="6416640"/>
          </a:xfrm>
        </p:grpSpPr>
        <p:sp>
          <p:nvSpPr>
            <p:cNvPr id="129" name="_s1028"/>
            <p:cNvSpPr/>
            <p:nvPr/>
          </p:nvSpPr>
          <p:spPr>
            <a:xfrm flipV="1">
              <a:off x="4571640" y="1782360"/>
              <a:ext cx="0" cy="8182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"/>
            <p:cNvSpPr/>
            <p:nvPr/>
          </p:nvSpPr>
          <p:spPr>
            <a:xfrm>
              <a:off x="2916720" y="189360"/>
              <a:ext cx="3382560" cy="1943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Участь у педагогі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ставк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ворчих звітах, конкурс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уково-практ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ференція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едагогічних читання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ощ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0"/>
            <p:cNvSpPr/>
            <p:nvPr/>
          </p:nvSpPr>
          <p:spPr>
            <a:xfrm flipV="1">
              <a:off x="5420160" y="2396520"/>
              <a:ext cx="8510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1"/>
            <p:cNvSpPr/>
            <p:nvPr/>
          </p:nvSpPr>
          <p:spPr>
            <a:xfrm>
              <a:off x="6156000" y="1125360"/>
              <a:ext cx="2592360" cy="1650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сульт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>
              <a:off x="5627520" y="3594600"/>
              <a:ext cx="1062360" cy="1800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3"/>
            <p:cNvSpPr/>
            <p:nvPr/>
          </p:nvSpPr>
          <p:spPr>
            <a:xfrm>
              <a:off x="6444000" y="3140640"/>
              <a:ext cx="2521800" cy="1629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робка, апробаці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атеріал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4"/>
            <p:cNvSpPr/>
            <p:nvPr/>
          </p:nvSpPr>
          <p:spPr>
            <a:xfrm>
              <a:off x="5041800" y="4144320"/>
              <a:ext cx="4737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5"/>
            <p:cNvSpPr/>
            <p:nvPr/>
          </p:nvSpPr>
          <p:spPr>
            <a:xfrm>
              <a:off x="4904640" y="4798800"/>
              <a:ext cx="2172600" cy="162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конання рол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ставник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6"/>
            <p:cNvSpPr/>
            <p:nvPr/>
          </p:nvSpPr>
          <p:spPr>
            <a:xfrm flipH="1">
              <a:off x="3630960" y="4144320"/>
              <a:ext cx="4701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7"/>
            <p:cNvSpPr/>
            <p:nvPr/>
          </p:nvSpPr>
          <p:spPr>
            <a:xfrm>
              <a:off x="2078640" y="4801680"/>
              <a:ext cx="2172600" cy="1629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Участь у робот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методичн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об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’</a:t>
              </a: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єдн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8"/>
            <p:cNvSpPr/>
            <p:nvPr/>
          </p:nvSpPr>
          <p:spPr>
            <a:xfrm flipH="1">
              <a:off x="2452680" y="3591720"/>
              <a:ext cx="1062360" cy="184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9"/>
            <p:cNvSpPr/>
            <p:nvPr/>
          </p:nvSpPr>
          <p:spPr>
            <a:xfrm>
              <a:off x="155520" y="3145680"/>
              <a:ext cx="2329560" cy="1629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творення портфолі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рофесій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0"/>
            <p:cNvSpPr/>
            <p:nvPr/>
          </p:nvSpPr>
          <p:spPr>
            <a:xfrm flipH="1" flipV="1">
              <a:off x="2871720" y="2396520"/>
              <a:ext cx="8546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1"/>
            <p:cNvSpPr/>
            <p:nvPr/>
          </p:nvSpPr>
          <p:spPr>
            <a:xfrm>
              <a:off x="757080" y="1077480"/>
              <a:ext cx="2354760" cy="1629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асмоосвіт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бота над науков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етодичною темо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2"/>
            <p:cNvSpPr/>
            <p:nvPr/>
          </p:nvSpPr>
          <p:spPr>
            <a:xfrm>
              <a:off x="2625840" y="2349000"/>
              <a:ext cx="3600360" cy="24472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ОРМИ ОРГАНІЗАЦІ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БЕЗПЕРЕРВ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РОЗВИТК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АХОВОЇ ОСВІ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ТА КВАЛІФІКАЦІ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ПЕДАГОГІ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6" descr=""/>
            <p:cNvPicPr/>
            <p:nvPr/>
          </p:nvPicPr>
          <p:blipFill>
            <a:blip r:embed="rId9"/>
            <a:stretch/>
          </p:blipFill>
          <p:spPr>
            <a:xfrm>
              <a:off x="7234560" y="5516640"/>
              <a:ext cx="1711800" cy="10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4" descr="6a00e550d890wi"/>
          <p:cNvPicPr/>
          <p:nvPr/>
        </p:nvPicPr>
        <p:blipFill>
          <a:blip r:embed="rId10"/>
          <a:stretch/>
        </p:blipFill>
        <p:spPr>
          <a:xfrm>
            <a:off x="4095720" y="561960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1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Diagram 20"/>
          <p:cNvGrpSpPr/>
          <p:nvPr/>
        </p:nvGrpSpPr>
        <p:grpSpPr>
          <a:xfrm>
            <a:off x="179280" y="260280"/>
            <a:ext cx="8713440" cy="6408360"/>
            <a:chOff x="179280" y="260280"/>
            <a:chExt cx="8713440" cy="6408360"/>
          </a:xfrm>
        </p:grpSpPr>
        <p:sp>
          <p:nvSpPr>
            <p:cNvPr id="147" name="_s2052"/>
            <p:cNvSpPr/>
            <p:nvPr/>
          </p:nvSpPr>
          <p:spPr>
            <a:xfrm>
              <a:off x="2763720" y="2069640"/>
              <a:ext cx="3573000" cy="299052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50000">
                  <a:srgbClr val="ffebfa"/>
                </a:gs>
                <a:gs pos="100000">
                  <a:srgbClr val="5e9eff">
                    <a:alpha val="50196"/>
                  </a:srgbClr>
                </a:gs>
              </a:gsLst>
              <a:lin ang="5400000"/>
            </a:gradFill>
            <a:ln w="46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3"/>
            <p:cNvSpPr/>
            <p:nvPr/>
          </p:nvSpPr>
          <p:spPr>
            <a:xfrm>
              <a:off x="3144240" y="2541600"/>
              <a:ext cx="2864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МЕТ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САМООСВІТ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ПЕДАГО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4"/>
            <p:cNvSpPr/>
            <p:nvPr/>
          </p:nvSpPr>
          <p:spPr>
            <a:xfrm>
              <a:off x="5509080" y="260280"/>
              <a:ext cx="3383640" cy="309672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5"/>
            <p:cNvSpPr/>
            <p:nvPr/>
          </p:nvSpPr>
          <p:spPr>
            <a:xfrm>
              <a:off x="619632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6"/>
            <p:cNvSpPr/>
            <p:nvPr/>
          </p:nvSpPr>
          <p:spPr>
            <a:xfrm>
              <a:off x="5509080" y="3789000"/>
              <a:ext cx="3309840" cy="287964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7"/>
            <p:cNvSpPr/>
            <p:nvPr/>
          </p:nvSpPr>
          <p:spPr>
            <a:xfrm>
              <a:off x="5555880" y="4930200"/>
              <a:ext cx="17967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8"/>
            <p:cNvSpPr/>
            <p:nvPr/>
          </p:nvSpPr>
          <p:spPr>
            <a:xfrm>
              <a:off x="190800" y="3645000"/>
              <a:ext cx="3301560" cy="3023640"/>
            </a:xfrm>
            <a:prstGeom prst="ellipse">
              <a:avLst/>
            </a:prstGeom>
            <a:gradFill rotWithShape="0">
              <a:gsLst>
                <a:gs pos="0">
                  <a:srgbClr val="d600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1690920" y="4930200"/>
              <a:ext cx="17964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60"/>
            <p:cNvSpPr/>
            <p:nvPr/>
          </p:nvSpPr>
          <p:spPr>
            <a:xfrm>
              <a:off x="179280" y="260280"/>
              <a:ext cx="3456000" cy="302400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61"/>
            <p:cNvSpPr/>
            <p:nvPr/>
          </p:nvSpPr>
          <p:spPr>
            <a:xfrm>
              <a:off x="105048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8" descr=""/>
            <p:cNvPicPr/>
            <p:nvPr/>
          </p:nvPicPr>
          <p:blipFill>
            <a:blip r:embed="rId1"/>
            <a:stretch/>
          </p:blipFill>
          <p:spPr>
            <a:xfrm>
              <a:off x="3923280" y="4365000"/>
              <a:ext cx="1278720" cy="21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395280" y="69228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озширення загальнопедагогічних і психологічних знань з метою поширення й удосконалення методів навчання й вихо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156360" y="1268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глиблення предметних 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96000" y="43657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володіння досягненнями педагогічної науки, передової педагогічної                  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539640" y="4581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ідвищення загальнокультурного рівн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6a00e550d890wi"/>
          <p:cNvPicPr/>
          <p:nvPr/>
        </p:nvPicPr>
        <p:blipFill>
          <a:blip r:embed="rId2"/>
          <a:stretch/>
        </p:blipFill>
        <p:spPr>
          <a:xfrm>
            <a:off x="7748640" y="2932200"/>
            <a:ext cx="132408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Елена Пономаренко</cp:lastModifiedBy>
  <dcterms:modified xsi:type="dcterms:W3CDTF">2017-04-04T05:59:57Z</dcterms:modified>
  <cp:revision>212</cp:revision>
  <dc:subject/>
  <dc:title>Слайд 1</dc:title>
</cp:coreProperties>
</file>