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F95-5B7B-46DD-9E74-27229181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5A9-DC51-470B-9C4A-9813244C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B65-B0A8-46F0-B227-74CE833D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079-8DD1-4333-9679-B6660427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E2CA-8C9F-4FCF-95F7-B7A9CEDD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2C93-9EA5-4A2A-A621-48F589C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789-51A7-4266-B580-5C7EF82D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AB71-6F84-40CE-814C-405AEA8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8214-0AA2-487E-92C9-7562C4D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B5C3-9280-4B34-A5E3-DAC53AC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DE62-45D0-45F7-8630-5EB2A46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CE7-7E78-4E6D-BDBA-87E270E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6C21-DD55-46EE-8324-ADCDEA3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AF9D-E8B1-46FF-A245-AB9AE50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9DEF-A504-4064-838D-F4BCCE9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4EB-AADD-468E-9A35-97C8E7CA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0A90-9478-4E01-ADE5-9992FBA4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024-C3F4-43D3-A24D-7C95A48E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940-32C8-45CF-B5F7-E608304E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58F-81CA-4B3A-B2E8-C2D2F207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DB7-9420-4573-95BB-A8274A67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80F-DC9A-4380-A6A2-212A811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B3D-4899-499F-A756-6F6ED92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8D6-303D-42FA-8E8A-A36B027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3323-0712-4716-9FD6-B520EABAE6E1}" type="slidenum">
              <a:rPr b="0" lang="ru-RU" sz="1800" spc="-1" strike="noStrike">
                <a:solidFill>
                  <a:srgbClr val="40404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F64-6CCF-4A14-94F8-84EFCD235569}" type="slidenum">
              <a:rPr b="0" lang="ru-RU" sz="1800" spc="-1" strike="noStrike">
                <a:solidFill>
                  <a:srgbClr val="40404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Комп</a:t>
            </a: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'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ютерна залежність або</a:t>
            </a: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«Врятуйте наші душі!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32846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«Цей світ чудовий,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                         </a:t>
            </a: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але не забути б мені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Verdana"/>
              </a:rPr>
              <a:t>повернутися»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Verdana"/>
              </a:rPr>
              <a:t>Брати Стругацькі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Picture 4" descr="http://photos1.fotosearch.com/bthumb/CSP/CSP149/k1492521.jpg"/>
          <p:cNvPicPr/>
          <p:nvPr/>
        </p:nvPicPr>
        <p:blipFill>
          <a:blip r:embed="rId1"/>
          <a:stretch/>
        </p:blipFill>
        <p:spPr>
          <a:xfrm rot="21092400">
            <a:off x="939960" y="2452320"/>
            <a:ext cx="27604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Що ж залучає в грі?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аявність власного (інтимного) миру, у який немає доступу нікому, крім нього самого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відповідальності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реалістичність процесів і повне абстрагування від навколишнього світу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можливість виправити будь-яку помилку, шляхом багаторазових спроб;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можливість самостійно приймати будь-які (у рамках гри) рішення.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1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468360" y="189000"/>
            <a:ext cx="1066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ортрет патологічного комп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'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ютерщика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На першій</a:t>
            </a:r>
            <a:r>
              <a:rPr b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стадії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легкий розлад</a:t>
            </a:r>
            <a:r>
              <a:rPr b="0" lang="uk-UA" sz="2600" spc="-1" strike="noStrike">
                <a:solidFill>
                  <a:srgbClr val="404040"/>
                </a:solidFill>
                <a:latin typeface="Times New Roman"/>
              </a:rPr>
              <a:t>, </a:t>
            </a:r>
            <a:r>
              <a:rPr b="0" lang="uk-UA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з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захоплення «новою грою» людина втрачає інтерес до всього іншого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Друга стад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різке наростанн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проблем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: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загальмовується увага, знижується працездатність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Третя стад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 – соціальна дезадаптація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: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  <a:ea typeface="Times New Roman"/>
              </a:rPr>
              <a:t>депресивний стан приводить до серйозних конфліктів у родині, школі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… 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4" name="Picture 5" descr="http://im4-tub-ua.yandex.net/i?id=196090940-15-72"/>
          <p:cNvPicPr/>
          <p:nvPr/>
        </p:nvPicPr>
        <p:blipFill>
          <a:blip r:embed="rId1"/>
          <a:stretch/>
        </p:blipFill>
        <p:spPr>
          <a:xfrm>
            <a:off x="395280" y="260280"/>
            <a:ext cx="1073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Головні причини    </a:t>
            </a: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       виникнення комп'ютерної залежності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або недолік спілкування і теплих емоційних стосунків в сім'ї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Відсутність  серйозних захоплень, інтересів, хобі, не пов'язаних з комп'ютеро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евміння налагоджувати бажані контакти з оточенням, відсутність друзів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Загальна невдачливість дитини.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Наявність важкої інвалідності, серйозного захворювання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4" descr="Картинка 123 из 151225"/>
          <p:cNvPicPr/>
          <p:nvPr/>
        </p:nvPicPr>
        <p:blipFill>
          <a:blip r:embed="rId1"/>
          <a:stretch/>
        </p:blipFill>
        <p:spPr>
          <a:xfrm>
            <a:off x="179280" y="115920"/>
            <a:ext cx="17272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43588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рофілактика комп'ютерної залежності з використанням наступних технологій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9" name="Picture 7" descr="Картинка 558 из 528179"/>
          <p:cNvPicPr/>
          <p:nvPr/>
        </p:nvPicPr>
        <p:blipFill>
          <a:blip r:embed="rId1"/>
          <a:stretch/>
        </p:blipFill>
        <p:spPr>
          <a:xfrm>
            <a:off x="2987640" y="3981600"/>
            <a:ext cx="2879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1.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Інформаційні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ублікації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телефон довір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сихологічна служб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оціальна підтримк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2" name="Picture 4" descr="Картинка 2725 из 164162"/>
          <p:cNvPicPr/>
          <p:nvPr/>
        </p:nvPicPr>
        <p:blipFill>
          <a:blip r:embed="rId1"/>
          <a:stretch/>
        </p:blipFill>
        <p:spPr>
          <a:xfrm>
            <a:off x="6012000" y="4437000"/>
            <a:ext cx="2100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2. Просвітницькі: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світницькі програм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батьк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педагогів, психологів, соціальних працівник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рограми навчання працівників комп'ютерних клубі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навчальні програми для учнів шкіл, ліцеїв  та коледжів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5" name="Picture 4" descr="i?id=200907013-02-72"/>
          <p:cNvPicPr/>
          <p:nvPr/>
        </p:nvPicPr>
        <p:blipFill>
          <a:blip r:embed="rId1"/>
          <a:stretch/>
        </p:blipFill>
        <p:spPr>
          <a:xfrm>
            <a:off x="6948360" y="148428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Зайнятості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клубна робот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додаткове навчання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тимчасове працевлаштування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8" name="Picture 4" descr="http://im0-tub-ua.yandex.net/i?id=153664357-01-72"/>
          <p:cNvPicPr/>
          <p:nvPr/>
        </p:nvPicPr>
        <p:blipFill>
          <a:blip r:embed="rId1"/>
          <a:stretch/>
        </p:blipFill>
        <p:spPr>
          <a:xfrm>
            <a:off x="6516720" y="4221000"/>
            <a:ext cx="222408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4. Корекції сімейних відносин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формування взаємин, що сприяють  повноцінному вихованню дитини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пільні інтереси всіх членів родини, емоційна підтримка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психологічний захист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1" name="Picture 4" descr="http://im6-tub-ua.yandex.net/i?id=190286905-46-72"/>
          <p:cNvPicPr/>
          <p:nvPr/>
        </p:nvPicPr>
        <p:blipFill>
          <a:blip r:embed="rId1"/>
          <a:stretch/>
        </p:blipFill>
        <p:spPr>
          <a:xfrm>
            <a:off x="5940360" y="3987720"/>
            <a:ext cx="2376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Релігійні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культура релігійних почуттів, усвідомлення вищої духовної й моральної сили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4" name="Picture 4" descr="http://im8-tub-ua.yandex.net/i?id=492947662-17-72"/>
          <p:cNvPicPr/>
          <p:nvPr/>
        </p:nvPicPr>
        <p:blipFill>
          <a:blip r:embed="rId1"/>
          <a:stretch/>
        </p:blipFill>
        <p:spPr>
          <a:xfrm>
            <a:off x="6643800" y="3933720"/>
            <a:ext cx="18828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Картинка 2591 из 164162"/>
          <p:cNvPicPr/>
          <p:nvPr/>
        </p:nvPicPr>
        <p:blipFill>
          <a:blip r:embed="rId1"/>
          <a:stretch/>
        </p:blipFill>
        <p:spPr>
          <a:xfrm>
            <a:off x="6732720" y="4653000"/>
            <a:ext cx="2195280" cy="1963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рофілактика комп'ютерної залежності або Правила допомоги «залежним»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280" y="2276280"/>
            <a:ext cx="7124760" cy="17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не позбавляти користувача доступу до комп'ютера, а нормалізувати його комп'ютерну діяльність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404040"/>
                </a:solidFill>
                <a:latin typeface="Verdana"/>
              </a:rPr>
              <a:t>Наслідки для психічного здоров'я людини взагалі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трата інтересу до соціального життя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трата інтересу до власного особистісного розвитку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иникнення інтелектуально-пізнавальної деформації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деградація молодого покоління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відхід від реальності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інфантилізм у професійному самовизначенні й життєвому становленні особистості людини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Картинка 1980 из 164164"/>
          <p:cNvPicPr/>
          <p:nvPr/>
        </p:nvPicPr>
        <p:blipFill>
          <a:blip r:embed="rId1"/>
          <a:stretch/>
        </p:blipFill>
        <p:spPr>
          <a:xfrm>
            <a:off x="250920" y="333360"/>
            <a:ext cx="1598400" cy="14079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Verdana"/>
              </a:rPr>
              <a:t>Псих</a:t>
            </a: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ологічна підтримка — це процес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 якому дорослий зосереджується на позитивних  сторонах і перевагах дитини з метою зміцнення  її самооцінки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допомагає дитині повірити в себе й свої здатності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допомагає дитині уникнути помилок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який підтримує дитину при невдачах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Для того, щоб підтримати дитину, необхідно: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Спиратися на сильні сторони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никати підкреслення недоліків, недоречностей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оказувати, що ви задоволені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міти й хотіти демонструвати любов і повагу до  дитини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Уміти допомогти дитині розбити великі завдання на більш дрібні, такі, з якими вона може впоратися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роводити більше часу з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нести гумор у взаємини з дитиною.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3" name="Picture 4" descr="http://im6-tub-ua.yandex.net/i?id=413178660-22-72"/>
          <p:cNvPicPr/>
          <p:nvPr/>
        </p:nvPicPr>
        <p:blipFill>
          <a:blip r:embed="rId1"/>
          <a:stretch/>
        </p:blipFill>
        <p:spPr>
          <a:xfrm>
            <a:off x="7451640" y="4941720"/>
            <a:ext cx="1673280" cy="191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ttp://im6-tub-ua.yandex.net/i?id=413178660-22-72"/>
          <p:cNvPicPr/>
          <p:nvPr/>
        </p:nvPicPr>
        <p:blipFill>
          <a:blip r:embed="rId2"/>
          <a:stretch/>
        </p:blipFill>
        <p:spPr>
          <a:xfrm>
            <a:off x="7470720" y="4941720"/>
            <a:ext cx="1673280" cy="191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im6-tub-ua.yandex.net/i?id=413178660-22-72"/>
          <p:cNvPicPr/>
          <p:nvPr/>
        </p:nvPicPr>
        <p:blipFill>
          <a:blip r:embed="rId3"/>
          <a:stretch/>
        </p:blipFill>
        <p:spPr>
          <a:xfrm>
            <a:off x="7470720" y="4941720"/>
            <a:ext cx="1673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    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Для того, щоб підтримати дитину, необхідно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162828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Знати про всі спроби дитини впоратися із завдання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міти взаємодіяти з дитиною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Дозволити дитині самій вирішувати проблеми там, де  це можливо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Уникати дисциплінарних заохочень і покарань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Приймати індивідуальність дитин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Проявляти віру в дитину, емпатію до неї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Демонструвати оптимізм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8" name="Picture 6" descr="http://im6-tub-ua.yandex.net/i?id=413178660-22-72"/>
          <p:cNvPicPr/>
          <p:nvPr/>
        </p:nvPicPr>
        <p:blipFill>
          <a:blip r:embed="rId1"/>
          <a:stretch/>
        </p:blipFill>
        <p:spPr>
          <a:xfrm>
            <a:off x="250920" y="333360"/>
            <a:ext cx="12492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Підтримувати можна за допомогою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85264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окремих слів; висловлень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доторкань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спільних дій, фізичної співучасті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вираз обличчя.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1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6804000" y="1557360"/>
            <a:ext cx="1609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Verdana"/>
              </a:rPr>
              <a:t>Дякую за увагу!!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3" name="Picture 8" descr="Картинка 2475 из 164162"/>
          <p:cNvPicPr/>
          <p:nvPr/>
        </p:nvPicPr>
        <p:blipFill>
          <a:blip r:embed="rId1"/>
          <a:stretch/>
        </p:blipFill>
        <p:spPr>
          <a:xfrm>
            <a:off x="2268360" y="2963880"/>
            <a:ext cx="46072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КОМП'ЮТЕРНА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 ЗАЛЕЖНІСТЬ: ІНТЕРНЕТ-</a:t>
            </a: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ЗАЛЕЖНІСТЬ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, ФАКТОРИ ЇЇ ВИНИКНЕННЯ, </a:t>
            </a:r>
            <a:r>
              <a:rPr b="1" lang="uk-UA" sz="2300" spc="-1" strike="noStrike">
                <a:solidFill>
                  <a:srgbClr val="ffffff"/>
                </a:solidFill>
                <a:latin typeface="Verdana"/>
              </a:rPr>
              <a:t>АДИКТИВНЕ </a:t>
            </a:r>
            <a:r>
              <a:rPr b="1" lang="uk-UA" sz="2300" spc="-1" strike="noStrike">
                <a:solidFill>
                  <a:srgbClr val="404040"/>
                </a:solidFill>
                <a:latin typeface="Verdana"/>
              </a:rPr>
              <a:t>ПОВОДЖЕННЯ ПІДЛІТКІВ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Picture 8" descr="Картинка 0 из 164171"/>
          <p:cNvPicPr/>
          <p:nvPr/>
        </p:nvPicPr>
        <p:blipFill>
          <a:blip r:embed="rId1"/>
          <a:stretch/>
        </p:blipFill>
        <p:spPr>
          <a:xfrm rot="20507400">
            <a:off x="366480" y="1254240"/>
            <a:ext cx="1527120" cy="190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3203640" y="2232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іти у віці від 6 до 17 років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1152720" y="2923200"/>
            <a:ext cx="68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7 % -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нтактували незнайомці в Інтернеті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109520" y="335628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9 %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хоче пішли на контак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вислали фотографію, інформацію про родин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1612080" y="436464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9 з 10 дітей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3388320" y="4364640"/>
            <a:ext cx="45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рапляли на порнографію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1209600" y="4867920"/>
            <a:ext cx="79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%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з них  піддавалися сексуальному домаганн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9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'ютерна</a:t>
            </a: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адикція </a:t>
            </a:r>
            <a:br>
              <a:rPr sz="2900"/>
            </a:b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ується набагато швидше, </a:t>
            </a:r>
            <a:br>
              <a:rPr sz="2900"/>
            </a:br>
            <a:r>
              <a:rPr b="1" i="1" lang="uk-UA" sz="29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іж інші адиктивні розлади</a:t>
            </a:r>
            <a:r>
              <a:rPr b="1" i="1" lang="uk-UA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9973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25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%    комп'ютернозалежних придбали залежність протягом першого півріччя після початку роботи за комп'ютером</a:t>
            </a: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58% –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протягом другого півріччя</a:t>
            </a: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</a:rPr>
              <a:t>17% –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</a:rPr>
              <a:t>через рік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4" descr="http://im2-tub-ua.yandex.net/i?id=81132291-17-72"/>
          <p:cNvPicPr/>
          <p:nvPr/>
        </p:nvPicPr>
        <p:blipFill>
          <a:blip r:embed="rId1"/>
          <a:stretch/>
        </p:blipFill>
        <p:spPr>
          <a:xfrm>
            <a:off x="0" y="1125360"/>
            <a:ext cx="1395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4000" spc="-1" strike="noStrike">
                <a:solidFill>
                  <a:srgbClr val="404040"/>
                </a:solidFill>
                <a:latin typeface="Times New Roman"/>
              </a:rPr>
              <a:t>Стадії залежності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легкого захоплення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i="1" lang="uk-UA" sz="1900" spc="-1" strike="noStrike">
                <a:solidFill>
                  <a:srgbClr val="404040"/>
                </a:solidFill>
                <a:latin typeface="Times New Roman"/>
              </a:rPr>
              <a:t>ситуаційний, ніж систематичний характер)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захоплення </a:t>
            </a:r>
            <a:r>
              <a:rPr b="0" i="1" lang="ru-RU" sz="1900" spc="-1" strike="noStrike">
                <a:solidFill>
                  <a:srgbClr val="404040"/>
                </a:solidFill>
                <a:latin typeface="Verdana"/>
              </a:rPr>
              <a:t>(</a:t>
            </a:r>
            <a:r>
              <a:rPr b="0" i="1" lang="uk-UA" sz="1900" spc="-1" strike="noStrike">
                <a:solidFill>
                  <a:srgbClr val="404040"/>
                </a:solidFill>
                <a:latin typeface="Verdana"/>
              </a:rPr>
              <a:t>появ в ієрархії потреб нової потреби — грати в комп’ютерні ігри </a:t>
            </a:r>
            <a:r>
              <a:rPr b="0" i="1" lang="ru-RU" sz="1900" spc="-1" strike="noStrike">
                <a:solidFill>
                  <a:srgbClr val="40404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залежності </a:t>
            </a:r>
            <a:r>
              <a:rPr b="0" i="1" lang="uk-UA" sz="1900" spc="-1" strike="noStrike">
                <a:solidFill>
                  <a:srgbClr val="404040"/>
                </a:solidFill>
                <a:latin typeface="Verdana"/>
              </a:rPr>
              <a:t>(зміни в ценністно-суттєвій сфері)</a:t>
            </a: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600" spc="-1" strike="noStrike">
                <a:solidFill>
                  <a:srgbClr val="404040"/>
                </a:solidFill>
                <a:latin typeface="Verdana"/>
              </a:rPr>
              <a:t>Стадія прихильності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0" i="1" lang="uk-UA" sz="2200" spc="-1" strike="noStrike">
                <a:solidFill>
                  <a:srgbClr val="404040"/>
                </a:solidFill>
                <a:latin typeface="Verdana"/>
              </a:rPr>
              <a:t>вгасанням ігрової активності людини, зсувом психологічної складової індивіда убік видужання</a:t>
            </a:r>
            <a:r>
              <a:rPr b="0" i="1" lang="ru-RU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9" name="Picture 4" descr="http://im5-tub-ua.yandex.net/i?id=199961854-64-72"/>
          <p:cNvPicPr/>
          <p:nvPr/>
        </p:nvPicPr>
        <p:blipFill>
          <a:blip r:embed="rId1"/>
          <a:stretch/>
        </p:blipFill>
        <p:spPr>
          <a:xfrm>
            <a:off x="611280" y="476280"/>
            <a:ext cx="1066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Соціалізована форма ігрової залежності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Verdana"/>
              </a:rPr>
              <a:t>Ця форма залежності менш згубна для психіки, ніж індивідуалізована форма. Людина не відривається від соціуму, не усамітнюється в собі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http://im3-tub-ua.yandex.net/i?id=310570739-34-72"/>
          <p:cNvPicPr/>
          <p:nvPr/>
        </p:nvPicPr>
        <p:blipFill>
          <a:blip r:embed="rId1"/>
          <a:stretch/>
        </p:blipFill>
        <p:spPr>
          <a:xfrm>
            <a:off x="539640" y="333360"/>
            <a:ext cx="1365480" cy="182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Обов'язковою умовою успішного лікування комп'ютерної залежності є усвідомлення проблеми й бажання лікуватися з боку залежної людин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Verdana"/>
              </a:rPr>
              <a:t>Комп'ютерну залежність найчастіше усвідомлюють друзі, родичі, знайомі, але аж ніяк не сам підліток.</a:t>
            </a: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Verdana"/>
              </a:rPr>
              <a:t>Симптоми комп’ютерної залежності</a:t>
            </a:r>
            <a:r>
              <a:rPr b="0" lang="uk-UA" sz="3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Психологічні симптоми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ідчуття ейфорії чи піднесеності під час роботи за комп’ютером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здатність зупинити роботу за комп’ютером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се більша і більша кількість часу, що проводиться за комп’ютеро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Ігнорування друзів та сім’ї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Відчуття порожнечі, депресії та роздратованості коли не за комп’ютеро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Перекладання повсякденних турбот на плечі родичів чи членів сім’ї;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7" descr="Картинка 1413 из 164167"/>
          <p:cNvPicPr/>
          <p:nvPr/>
        </p:nvPicPr>
        <p:blipFill>
          <a:blip r:embed="rId1"/>
          <a:stretch/>
        </p:blipFill>
        <p:spPr>
          <a:xfrm>
            <a:off x="324000" y="692280"/>
            <a:ext cx="25923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Картинка 1413 из 164167"/>
          <p:cNvPicPr/>
          <p:nvPr/>
        </p:nvPicPr>
        <p:blipFill>
          <a:blip r:embed="rId1"/>
          <a:stretch/>
        </p:blipFill>
        <p:spPr>
          <a:xfrm>
            <a:off x="684360" y="333360"/>
            <a:ext cx="2232000" cy="1384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Verdana"/>
              </a:rPr>
              <a:t>Фізичні симптоми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Зап’ястний тунельний синдром – оніміння та зниження чутливості пальців через утиснення нерву, що з’єднує їх із зап’ястям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Сухі очі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Головні болі (схожі на мігрені)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Болі у спині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регулярне харчування – відсутність апетиту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Недотримання гігієни;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Verdana"/>
              </a:rPr>
              <a:t>Розлади сну (засипання, сновидіння, тривалість)</a:t>
            </a:r>
            <a:r>
              <a:rPr b="0" lang="ru-RU" sz="22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2:54:04Z</dcterms:created>
  <dc:creator>Admin</dc:creator>
  <dc:description/>
  <dc:language>en-US</dc:language>
  <cp:lastModifiedBy>админ</cp:lastModifiedBy>
  <dcterms:modified xsi:type="dcterms:W3CDTF">2016-02-01T20:47:23Z</dcterms:modified>
  <cp:revision>15</cp:revision>
  <dc:subject/>
  <dc:title>Слайд 1</dc:title>
</cp:coreProperties>
</file>