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ABC-7076-44A9-8BC7-A356C881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514-FC7E-42C7-A745-035C91B6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6E0-D8B3-4D17-89CB-A36651F2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AC2-611D-44A7-A2E6-6F903508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9037-C58E-4960-869F-B39DFEF1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072-4762-4DD9-9027-71A0E1ED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0F2E-FA0A-4126-B587-A29ADEB6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5DDB-09DF-40C4-88FE-9D28B87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505E-A4F1-493A-9579-7CFDE517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C2C2-C4B6-4B24-AF66-44293FF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045-C485-4579-A504-ED35C5B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88E-7A45-4E90-9929-3F923B9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852A-FD04-46DD-832A-7371600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03D0-AC6B-400F-BF4F-90B6EA7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C307-AA63-40EE-BE6D-C472EE57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C15B-1BCA-46A7-9F58-DB2494C5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20B-EA9B-4458-A3EC-25713B9E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AE5-8189-46EA-8398-A77347E4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ECC-5A11-4EBA-90D0-D9A84DA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964-0573-45B7-A9D1-0F7361E9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E31-2CFF-466F-A7EC-AB82325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824-50E8-4297-A316-FEE8ADF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C79-CB63-4DE1-B663-60B07C6E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FD7-2C93-4DA0-8FDB-28516FDE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7E27-4D96-4AC3-BB3D-356A28A392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F9C5-3E50-4A49-BC7D-789C2B1927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34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Гарний учитель може навчити інших навіть того, чого сам не вміє”</a:t>
            </a:r>
            <a:br>
              <a:rPr sz="5400"/>
            </a:b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Тадеуш Котарбінський</a:t>
            </a:r>
            <a:br>
              <a:rPr sz="2000"/>
            </a:b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польський філосо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757080" y="4220640"/>
            <a:ext cx="1443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j0299125"/>
          <p:cNvPicPr/>
          <p:nvPr/>
        </p:nvPicPr>
        <p:blipFill>
          <a:blip r:embed="rId2"/>
          <a:stretch/>
        </p:blipFill>
        <p:spPr>
          <a:xfrm>
            <a:off x="3780000" y="4292640"/>
            <a:ext cx="1584000" cy="180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f296"/>
          <p:cNvPicPr/>
          <p:nvPr/>
        </p:nvPicPr>
        <p:blipFill>
          <a:blip r:embed="rId2"/>
          <a:stretch/>
        </p:blipFill>
        <p:spPr>
          <a:xfrm>
            <a:off x="3924360" y="333360"/>
            <a:ext cx="499428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0" y="189000"/>
            <a:ext cx="3780000" cy="5688000"/>
          </a:xfrm>
          <a:custGeom>
            <a:avLst/>
            <a:gdLst>
              <a:gd name="textAreaLeft" fmla="*/ 445320 w 3780000"/>
              <a:gd name="textAreaRight" fmla="*/ 3334680 w 3780000"/>
              <a:gd name="textAreaTop" fmla="*/ 445320 h 5688000"/>
              <a:gd name="textAreaBottom" fmla="*/ 5242680 h 5688000"/>
            </a:gdLst>
            <a:ahLst/>
            <a:rect l="textAreaLeft" t="textAreaTop" r="textAreaRight" b="textAreaBottom"/>
            <a:pathLst>
              <a:path w="21600" h="32502">
                <a:moveTo>
                  <a:pt x="3600" y="0"/>
                </a:moveTo>
                <a:arcTo wR="3600" hR="3600" stAng="0" swAng="5400000"/>
                <a:lnTo>
                  <a:pt x="0" y="28902"/>
                </a:lnTo>
                <a:arcTo wR="3600" hR="3600" stAng="16200000" swAng="5400000"/>
                <a:lnTo>
                  <a:pt x="18000" y="32502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П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працелюбний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Р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реаліст  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О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організатор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Ф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фанат    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у хорошому розумінні)</a:t>
            </a:r>
            <a:endParaRPr b="1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Е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екстраверт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С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самодостатній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І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– інтелектуал,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туїтивіст         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О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оптиміст     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Н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науковець                 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 А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активіст      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Л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людинолюб,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любить свою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справу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cc33"/>
                </a:solidFill>
                <a:latin typeface="Tahoma"/>
              </a:rPr>
              <a:t>Креативні ознаки </a:t>
            </a:r>
            <a:br>
              <a:rPr sz="5400"/>
            </a:br>
            <a:r>
              <a:rPr b="1" lang="uk-UA" sz="5400" spc="-1" strike="noStrike">
                <a:solidFill>
                  <a:srgbClr val="33cc33"/>
                </a:solidFill>
                <a:latin typeface="Tahoma"/>
              </a:rPr>
              <a:t>учителя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4"/>
          <p:cNvSpPr/>
          <p:nvPr/>
        </p:nvSpPr>
        <p:spPr>
          <a:xfrm flipH="1">
            <a:off x="755280" y="1844640"/>
            <a:ext cx="230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84720" y="1773360"/>
            <a:ext cx="19432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79280" y="2565360"/>
            <a:ext cx="2808360" cy="914400"/>
          </a:xfrm>
          <a:prstGeom prst="downArrowCallout">
            <a:avLst>
              <a:gd name="adj1" fmla="val 76788"/>
              <a:gd name="adj2" fmla="val 76781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ffff"/>
                </a:solidFill>
                <a:latin typeface="Arial"/>
              </a:rPr>
              <a:t>Швидкіс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084720" y="2565360"/>
            <a:ext cx="2409840" cy="863640"/>
          </a:xfrm>
          <a:prstGeom prst="downArrowCallout">
            <a:avLst>
              <a:gd name="adj1" fmla="val 69764"/>
              <a:gd name="adj2" fmla="val 69758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ffff"/>
                </a:solidFill>
                <a:latin typeface="Arial"/>
              </a:rPr>
              <a:t>Оригінальніс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79280" y="3573360"/>
            <a:ext cx="2989440" cy="2592360"/>
          </a:xfrm>
          <a:custGeom>
            <a:avLst/>
            <a:gdLst>
              <a:gd name="textAreaLeft" fmla="*/ 0 w 2989440"/>
              <a:gd name="textAreaRight" fmla="*/ 2989800 w 2989440"/>
              <a:gd name="textAreaTop" fmla="*/ 335880 h 2592360"/>
              <a:gd name="textAreaBottom" fmla="*/ 22564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Кількість нових ідей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що виникаю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за певний час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851280" y="2924280"/>
            <a:ext cx="5041800" cy="3600360"/>
          </a:xfrm>
          <a:custGeom>
            <a:avLst/>
            <a:gdLst>
              <a:gd name="textAreaLeft" fmla="*/ 0 w 5041800"/>
              <a:gd name="textAreaRight" fmla="*/ 5042160 w 5041800"/>
              <a:gd name="textAreaTop" fmla="*/ 466560 h 3600360"/>
              <a:gd name="textAreaBottom" fmla="*/ 31338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Здатність висувати ідеї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що відрізняються від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загальноприйнятих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уміння в простому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бачити складне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утливість до незвичайного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ереключення з однієї ідеї на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іншу.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3745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-якіс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 –компетент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–організова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 –самовдосконалення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- творчи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– інноваційність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талановит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вимоглив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оригіналь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- репродуктив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 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чем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обач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гнучк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- обов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  <a:ea typeface="Tahoma"/>
              </a:rPr>
              <a:t>’язковість</a:t>
            </a:r>
            <a:br>
              <a:rPr sz="1800"/>
            </a:b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В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відповідаль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Ч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чуй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И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інтуїтив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Т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толерант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Е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емоцій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Л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лагід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Я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- яркість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40000" y="404280"/>
            <a:ext cx="4546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j0186348"/>
          <p:cNvPicPr/>
          <p:nvPr/>
        </p:nvPicPr>
        <p:blipFill>
          <a:blip r:embed="rId2"/>
          <a:stretch/>
        </p:blipFill>
        <p:spPr>
          <a:xfrm>
            <a:off x="4140360" y="189000"/>
            <a:ext cx="4319280" cy="62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ahoma"/>
              </a:rPr>
              <a:t>Реальні шляхи підвищення творчого потенціалу вчителів ліцею</a:t>
            </a:r>
            <a:r>
              <a:rPr b="1" lang="uk-UA" sz="36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єднувати нові ідеї зі старими перевіриними концепці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читися тільки через діяльні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користовувати навколишній світ як клас для навчальних зан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стосовуватися до індивідуальних потреб учнів із різними стилями навч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формувати моральні цінності та ввічливі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творювати всім рівні можливості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79280" y="5516640"/>
            <a:ext cx="849636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Здатність підтримувати необхідний рівень</a:t>
            </a:r>
            <a:r>
              <a:rPr b="1" i="1" lang="uk-UA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я хочу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я можу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я повинен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92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3:20:21Z</dcterms:created>
  <dc:creator>пономаренко</dc:creator>
  <dc:description/>
  <dc:language>en-US</dc:language>
  <cp:lastModifiedBy>Sveta</cp:lastModifiedBy>
  <dcterms:modified xsi:type="dcterms:W3CDTF">2011-01-25T17:11:02Z</dcterms:modified>
  <cp:revision>14</cp:revision>
  <dc:subject/>
  <dc:title>І.. Пізнавальна (Суспільно-правовий компонент)</dc:title>
</cp:coreProperties>
</file>