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01A-6F72-4004-AF3E-76D66E5C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94C-72D6-4DFE-88EC-29073925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B8C-7B6E-4F38-AC37-2D056EE3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E15-EEB5-49A0-AC5E-13479D7D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2C81-B188-4CA4-A3CD-5A9D1EB9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69B5-3B5B-444E-8BA1-85F9EA8C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B75F-6C2A-444B-A866-6DAFCCC4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A772-1683-421F-9120-40F5EA1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E412-E1F8-4F28-9C46-B4A2A10A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660A-87D2-455F-B8A4-6BB0FFF1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CB36-C80F-411B-A55F-3E8A36EC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1C3-00AF-43E0-BCB8-278DF15C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72B5-CF58-467C-B763-E17ACFAE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744F-DA43-4B40-9CF1-08B72D8A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C8DA-637E-4B25-8622-5F570E7A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512D-37C2-416C-A626-D61DFDE2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CA08-4257-455A-B0F0-D591D24E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0C0-5BDA-4679-BDB4-0BBF8DF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615-3DE8-448D-98F6-CC3C1B19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C6B-8D38-42EB-86A9-3733B627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26D-F8A1-4BA1-B844-990E8FAF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333-F7D9-4E31-A232-D01AA409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68C-60F6-4434-9697-5F41880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1BA-956C-4B54-88F9-A53C6C8B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9E14-A803-415E-BBEA-43D8B11703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CE8F-684D-4FC9-895F-5E857A603F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34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Гарний учитель може навчити інших навіть того, чого сам не вміє”</a:t>
            </a:r>
            <a:br>
              <a:rPr sz="5400"/>
            </a:b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Тадеуш Котарбінський</a:t>
            </a:r>
            <a:br>
              <a:rPr sz="2000"/>
            </a:b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польський філосо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757080" y="4220640"/>
            <a:ext cx="14436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j0299125"/>
          <p:cNvPicPr/>
          <p:nvPr/>
        </p:nvPicPr>
        <p:blipFill>
          <a:blip r:embed="rId2"/>
          <a:stretch/>
        </p:blipFill>
        <p:spPr>
          <a:xfrm>
            <a:off x="3780000" y="4292640"/>
            <a:ext cx="1584000" cy="180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f296"/>
          <p:cNvPicPr/>
          <p:nvPr/>
        </p:nvPicPr>
        <p:blipFill>
          <a:blip r:embed="rId2"/>
          <a:stretch/>
        </p:blipFill>
        <p:spPr>
          <a:xfrm>
            <a:off x="3924360" y="333360"/>
            <a:ext cx="499428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0" y="189000"/>
            <a:ext cx="3780000" cy="5688000"/>
          </a:xfrm>
          <a:custGeom>
            <a:avLst/>
            <a:gdLst>
              <a:gd name="textAreaLeft" fmla="*/ 445320 w 3780000"/>
              <a:gd name="textAreaRight" fmla="*/ 3334680 w 3780000"/>
              <a:gd name="textAreaTop" fmla="*/ 445320 h 5688000"/>
              <a:gd name="textAreaBottom" fmla="*/ 5242680 h 5688000"/>
            </a:gdLst>
            <a:ahLst/>
            <a:rect l="textAreaLeft" t="textAreaTop" r="textAreaRight" b="textAreaBottom"/>
            <a:pathLst>
              <a:path w="21600" h="32502">
                <a:moveTo>
                  <a:pt x="3600" y="0"/>
                </a:moveTo>
                <a:arcTo wR="3600" hR="3600" stAng="0" swAng="5400000"/>
                <a:lnTo>
                  <a:pt x="0" y="28902"/>
                </a:lnTo>
                <a:arcTo wR="3600" hR="3600" stAng="16200000" swAng="5400000"/>
                <a:lnTo>
                  <a:pt x="18000" y="32502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П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працелюбний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Р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реаліст    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О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організатор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Ф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фанат      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у хорошому розумінні)</a:t>
            </a:r>
            <a:endParaRPr b="1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Е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екстраверт              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С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самодостатній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І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– інтелектуал,  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туїтивіст         </a:t>
            </a:r>
            <a:br>
              <a:rPr sz="2000"/>
            </a:b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О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оптиміст                   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Н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науковець                 </a:t>
            </a:r>
            <a:br>
              <a:rPr sz="2000"/>
            </a:b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 А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активіст                    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Л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людинолюб,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любить свою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справу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cc33"/>
                </a:solidFill>
                <a:latin typeface="Tahoma"/>
              </a:rPr>
              <a:t>Креативні ознаки </a:t>
            </a:r>
            <a:br>
              <a:rPr sz="5400"/>
            </a:br>
            <a:r>
              <a:rPr b="1" lang="uk-UA" sz="5400" spc="-1" strike="noStrike">
                <a:solidFill>
                  <a:srgbClr val="33cc33"/>
                </a:solidFill>
                <a:latin typeface="Tahoma"/>
              </a:rPr>
              <a:t>учителя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4"/>
          <p:cNvSpPr/>
          <p:nvPr/>
        </p:nvSpPr>
        <p:spPr>
          <a:xfrm flipH="1">
            <a:off x="755280" y="1844640"/>
            <a:ext cx="230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084720" y="1773360"/>
            <a:ext cx="194328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79280" y="2565360"/>
            <a:ext cx="2808360" cy="914400"/>
          </a:xfrm>
          <a:prstGeom prst="downArrowCallout">
            <a:avLst>
              <a:gd name="adj1" fmla="val 76788"/>
              <a:gd name="adj2" fmla="val 76781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ffff"/>
                </a:solidFill>
                <a:latin typeface="Arial"/>
              </a:rPr>
              <a:t>Швидкість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084720" y="2565360"/>
            <a:ext cx="2409840" cy="863640"/>
          </a:xfrm>
          <a:prstGeom prst="downArrowCallout">
            <a:avLst>
              <a:gd name="adj1" fmla="val 69764"/>
              <a:gd name="adj2" fmla="val 69758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ffff"/>
                </a:solidFill>
                <a:latin typeface="Arial"/>
              </a:rPr>
              <a:t>Оригінальність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79280" y="3573360"/>
            <a:ext cx="2989440" cy="2592360"/>
          </a:xfrm>
          <a:custGeom>
            <a:avLst/>
            <a:gdLst>
              <a:gd name="textAreaLeft" fmla="*/ 0 w 2989440"/>
              <a:gd name="textAreaRight" fmla="*/ 2989800 w 2989440"/>
              <a:gd name="textAreaTop" fmla="*/ 335880 h 2592360"/>
              <a:gd name="textAreaBottom" fmla="*/ 225648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Кількість нових ідей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що виникають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за певний час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3851280" y="2924280"/>
            <a:ext cx="5041800" cy="3600360"/>
          </a:xfrm>
          <a:custGeom>
            <a:avLst/>
            <a:gdLst>
              <a:gd name="textAreaLeft" fmla="*/ 0 w 5041800"/>
              <a:gd name="textAreaRight" fmla="*/ 5042160 w 5041800"/>
              <a:gd name="textAreaTop" fmla="*/ 466560 h 3600360"/>
              <a:gd name="textAreaBottom" fmla="*/ 313380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Здатність висувати ідеї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що відрізняються від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загальноприйнятих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уміння в простому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бачити складне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чутливість до незвичайного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ереключення з однієї ідеї на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іншу.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374508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-якіс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 –компетент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О 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–організова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 –самовдосконалення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- творчи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– інноваційність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 – талановит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 – вимоглив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– оригіналь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- репродуктив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Ч 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– чем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 – обач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– гнучк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- обов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  <a:ea typeface="Tahoma"/>
              </a:rPr>
              <a:t>’язковість</a:t>
            </a:r>
            <a:br>
              <a:rPr sz="1800"/>
            </a:b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В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 – відповідаль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Ч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 – чуй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И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– інтуїтив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Т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– толерант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Е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– емоцій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Л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 – лагід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Я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- яркість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40000" y="404280"/>
            <a:ext cx="45464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j0186348"/>
          <p:cNvPicPr/>
          <p:nvPr/>
        </p:nvPicPr>
        <p:blipFill>
          <a:blip r:embed="rId2"/>
          <a:stretch/>
        </p:blipFill>
        <p:spPr>
          <a:xfrm>
            <a:off x="4140360" y="189000"/>
            <a:ext cx="4319280" cy="626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ahoma"/>
              </a:rPr>
              <a:t>Реальні шляхи підвищення творчого потенціалу вчителів ліцею</a:t>
            </a:r>
            <a:r>
              <a:rPr b="1" lang="uk-UA" sz="36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єднувати нові ідеї зі старими перевіриними концепці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читися тільки через діяльні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користовувати навколишній світ як клас для навчальних заня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истосовуватися до індивідуальних потреб учнів із різними стилями навчан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формувати моральні цінності та ввічливі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творювати всім рівні можливості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179280" y="5516640"/>
            <a:ext cx="849636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Здатність підтримувати необхідний рівень</a:t>
            </a:r>
            <a:r>
              <a:rPr b="1" i="1" lang="uk-UA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я хочу”</a:t>
            </a: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“я можу”</a:t>
            </a: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“я повинен”</a:t>
            </a: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92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192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192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192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23:20:21Z</dcterms:created>
  <dc:creator>пономаренко</dc:creator>
  <dc:description/>
  <dc:language>en-US</dc:language>
  <cp:lastModifiedBy>Sveta</cp:lastModifiedBy>
  <dcterms:modified xsi:type="dcterms:W3CDTF">2011-01-25T17:11:02Z</dcterms:modified>
  <cp:revision>14</cp:revision>
  <dc:subject/>
  <dc:title>І.. Пізнавальна (Суспільно-правовий компонент)</dc:title>
</cp:coreProperties>
</file>