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F20-CB6C-4DFE-B059-B7FC8476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1C5-D67E-43AA-B04D-21F26E1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40D-CA93-4735-BDCD-CF763FBB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F0C-C6D8-4F19-A131-9892EF36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787-0590-4764-AC9E-BAAB223A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0FE-482D-4188-B792-57A12F7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C5F-B51D-4932-A2F8-8C077192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61C-78F6-4FA9-921C-4819177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548-911C-4A6E-B692-BBDBCBC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403-B332-45B8-A5F3-9DC2B5A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D22-4656-469D-8AB5-47ED9FC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E22-5EDF-4B56-B395-4F853F9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ff"/>
            </a:gs>
            <a:gs pos="100000">
              <a:srgbClr val="fffa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B00-7CF1-4531-8DB7-BB3CE75BFA23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Республіка Ерудованої Енергійної Молоді (РЕЕМ) –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шкільний осередок районної організації 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«Нове покоління Дергачівщи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423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РЕЕМ – громадська неполітична організація, що об’єднує на добровільних засадах учнівську молодь Малоданилівського ліцею, яка підтримує програму цієї організації та сприяє її здійснен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_7710"/>
          <p:cNvPicPr/>
          <p:nvPr/>
        </p:nvPicPr>
        <p:blipFill>
          <a:blip r:embed="rId1"/>
          <a:stretch/>
        </p:blipFill>
        <p:spPr>
          <a:xfrm>
            <a:off x="1908000" y="3429000"/>
            <a:ext cx="48294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Міністерство фізичної культури і спор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рганізовує проведення фізкультурно-спортивних заход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абезпечує участь представників ліцею у районних та обласних змаганнях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правляє просвітницьку і пропагандистську роботу з формування фізично і духовно особист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День физрука"/>
          <p:cNvPicPr/>
          <p:nvPr/>
        </p:nvPicPr>
        <p:blipFill>
          <a:blip r:embed="rId1"/>
          <a:stretch/>
        </p:blipFill>
        <p:spPr>
          <a:xfrm>
            <a:off x="684360" y="3716280"/>
            <a:ext cx="3384360" cy="25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G_1932"/>
          <p:cNvPicPr/>
          <p:nvPr/>
        </p:nvPicPr>
        <p:blipFill>
          <a:blip r:embed="rId2"/>
          <a:stretch/>
        </p:blipFill>
        <p:spPr>
          <a:xfrm>
            <a:off x="4500720" y="3789360"/>
            <a:ext cx="3600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ідведення підсумкі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561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Протягом року здійснюється моніторинг діяльності міст РЕЕМ, який дозволяє визначити міста-переможці та підвести підсумки проекту «Краще місто ро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61196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Основна мета організації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 сприятливих умов для формування особистісних рис громадянина України, розвиток вільної, духовно багатої, талановитої особистості, здатної до творчої 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250920" y="907920"/>
            <a:ext cx="8640720" cy="5644440"/>
            <a:chOff x="250920" y="907920"/>
            <a:chExt cx="8640720" cy="5644440"/>
          </a:xfrm>
        </p:grpSpPr>
        <p:sp>
          <p:nvSpPr>
            <p:cNvPr id="47" name="Text Box 3"/>
            <p:cNvSpPr/>
            <p:nvPr/>
          </p:nvSpPr>
          <p:spPr>
            <a:xfrm>
              <a:off x="3276720" y="907920"/>
              <a:ext cx="2663640" cy="5814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99"/>
                  </a:solidFill>
                  <a:latin typeface="Arial"/>
                </a:rPr>
                <a:t>Президен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250920" y="1844640"/>
              <a:ext cx="266364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Верх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5"/>
            <p:cNvSpPr/>
            <p:nvPr/>
          </p:nvSpPr>
          <p:spPr>
            <a:xfrm>
              <a:off x="6227640" y="1844640"/>
              <a:ext cx="266400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Ниж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971640" y="3139920"/>
              <a:ext cx="720072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Кабінет міністрі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826920" y="4076640"/>
              <a:ext cx="374364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світ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нау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акону і порядк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4.   Міністерство економіки і прац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5.   Міністерство зовнішніх стос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y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нкі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4572000" y="4076640"/>
              <a:ext cx="374328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 питань історії          рідного кра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екологі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хорони здоров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’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Міністерство фізкультури та спорт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2124000" y="6092640"/>
              <a:ext cx="493416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Мери та уряди мі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270036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601200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4500720" y="1699920"/>
              <a:ext cx="0" cy="119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2050920" y="2708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6443280" y="2708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2842920" y="3716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5508720" y="3716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>
              <a:off x="3059280" y="5732280"/>
              <a:ext cx="72072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H="1">
              <a:off x="5435280" y="5732280"/>
              <a:ext cx="60156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9"/>
          <p:cNvSpPr/>
          <p:nvPr/>
        </p:nvSpPr>
        <p:spPr>
          <a:xfrm>
            <a:off x="0" y="0"/>
            <a:ext cx="871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і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7"/>
          <p:cNvGrpSpPr/>
          <p:nvPr/>
        </p:nvGrpSpPr>
        <p:grpSpPr>
          <a:xfrm>
            <a:off x="0" y="189000"/>
            <a:ext cx="9114840" cy="6479280"/>
            <a:chOff x="0" y="189000"/>
            <a:chExt cx="9114840" cy="6479280"/>
          </a:xfrm>
        </p:grpSpPr>
        <p:sp>
          <p:nvSpPr>
            <p:cNvPr id="65" name="Line 30"/>
            <p:cNvSpPr/>
            <p:nvPr/>
          </p:nvSpPr>
          <p:spPr>
            <a:xfrm>
              <a:off x="2124000" y="2709720"/>
              <a:ext cx="1727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"/>
            <p:cNvSpPr/>
            <p:nvPr/>
          </p:nvSpPr>
          <p:spPr>
            <a:xfrm>
              <a:off x="3059280" y="83628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РЕЕ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82692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Края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5-8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"/>
            <p:cNvSpPr/>
            <p:nvPr/>
          </p:nvSpPr>
          <p:spPr>
            <a:xfrm>
              <a:off x="521964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Рит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9-11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3059280" y="314136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Міст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7"/>
            <p:cNvGrpSpPr/>
            <p:nvPr/>
          </p:nvGrpSpPr>
          <p:grpSpPr>
            <a:xfrm>
              <a:off x="0" y="4176000"/>
              <a:ext cx="4268160" cy="2492280"/>
              <a:chOff x="0" y="4176000"/>
              <a:chExt cx="4268160" cy="2492280"/>
            </a:xfrm>
          </p:grpSpPr>
          <p:sp>
            <p:nvSpPr>
              <p:cNvPr id="71" name="Text Box 8"/>
              <p:cNvSpPr/>
              <p:nvPr/>
            </p:nvSpPr>
            <p:spPr>
              <a:xfrm rot="10800000">
                <a:off x="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ружнє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9"/>
              <p:cNvSpPr/>
              <p:nvPr/>
            </p:nvSpPr>
            <p:spPr>
              <a:xfrm rot="10800000">
                <a:off x="7207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Уда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"/>
              <p:cNvSpPr/>
              <p:nvPr/>
            </p:nvSpPr>
            <p:spPr>
              <a:xfrm rot="10800000">
                <a:off x="14414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лім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1"/>
              <p:cNvSpPr/>
              <p:nvPr/>
            </p:nvSpPr>
            <p:spPr>
              <a:xfrm rot="10800000">
                <a:off x="216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опитливи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 rot="10800000">
                <a:off x="360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Новознанн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 rot="10800000">
                <a:off x="28810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Зоря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4"/>
            <p:cNvGrpSpPr/>
            <p:nvPr/>
          </p:nvGrpSpPr>
          <p:grpSpPr>
            <a:xfrm>
              <a:off x="4846680" y="4176000"/>
              <a:ext cx="4268160" cy="2492280"/>
              <a:chOff x="4846680" y="4176000"/>
              <a:chExt cx="4268160" cy="2492280"/>
            </a:xfrm>
          </p:grpSpPr>
          <p:sp>
            <p:nvSpPr>
              <p:cNvPr id="78" name="Text Box 15"/>
              <p:cNvSpPr/>
              <p:nvPr/>
            </p:nvSpPr>
            <p:spPr>
              <a:xfrm rot="10800000">
                <a:off x="48466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Тінейджер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 rot="10800000">
                <a:off x="556740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соблив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7"/>
              <p:cNvSpPr/>
              <p:nvPr/>
            </p:nvSpPr>
            <p:spPr>
              <a:xfrm rot="10800000">
                <a:off x="62881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Бажан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8"/>
              <p:cNvSpPr/>
              <p:nvPr/>
            </p:nvSpPr>
            <p:spPr>
              <a:xfrm rot="10800000">
                <a:off x="700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Шукачі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19"/>
              <p:cNvSpPr/>
              <p:nvPr/>
            </p:nvSpPr>
            <p:spPr>
              <a:xfrm rot="10800000">
                <a:off x="844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Молодіж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20"/>
              <p:cNvSpPr/>
              <p:nvPr/>
            </p:nvSpPr>
            <p:spPr>
              <a:xfrm rot="10800000">
                <a:off x="77277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Ерудит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Line 21"/>
            <p:cNvSpPr/>
            <p:nvPr/>
          </p:nvSpPr>
          <p:spPr>
            <a:xfrm flipH="1">
              <a:off x="1979640" y="1485720"/>
              <a:ext cx="93168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6227640" y="1485720"/>
              <a:ext cx="86544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611280" y="189000"/>
              <a:ext cx="756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С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к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     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 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 flipH="1">
              <a:off x="324000" y="2709720"/>
              <a:ext cx="1800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 flipH="1">
              <a:off x="1042560" y="2709720"/>
              <a:ext cx="10810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 flipH="1">
              <a:off x="176328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212400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2124000" y="2709720"/>
              <a:ext cx="1008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1"/>
            <p:cNvSpPr/>
            <p:nvPr/>
          </p:nvSpPr>
          <p:spPr>
            <a:xfrm flipH="1">
              <a:off x="5292720" y="2709720"/>
              <a:ext cx="1511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2"/>
            <p:cNvSpPr/>
            <p:nvPr/>
          </p:nvSpPr>
          <p:spPr>
            <a:xfrm flipH="1">
              <a:off x="5940000" y="2709720"/>
              <a:ext cx="863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3"/>
            <p:cNvSpPr/>
            <p:nvPr/>
          </p:nvSpPr>
          <p:spPr>
            <a:xfrm flipH="1">
              <a:off x="6659280" y="2709720"/>
              <a:ext cx="144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>
              <a:off x="6804000" y="2709720"/>
              <a:ext cx="432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5"/>
            <p:cNvSpPr/>
            <p:nvPr/>
          </p:nvSpPr>
          <p:spPr>
            <a:xfrm>
              <a:off x="6804000" y="2709720"/>
              <a:ext cx="115272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>
              <a:off x="6804000" y="2709720"/>
              <a:ext cx="1871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Arial"/>
              </a:rPr>
              <a:t>Міністерство освіти і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47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дійснення управління органів шкільного самоврядування в галузі осві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прияння реалізації прав і виконання обо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язків учасників навчально-виховного процесу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творення умов для творчої діяльності учнів, відповідно до їх інтерес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проведення роботи, спрямованої на формування в учнів свідомого ставлення до навч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DSC06889.JPG"/>
          <p:cNvPicPr/>
          <p:nvPr/>
        </p:nvPicPr>
        <p:blipFill>
          <a:blip r:embed="rId1"/>
          <a:stretch/>
        </p:blipFill>
        <p:spPr>
          <a:xfrm>
            <a:off x="1258920" y="4149720"/>
            <a:ext cx="30970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4230863"/>
          <p:cNvPicPr/>
          <p:nvPr/>
        </p:nvPicPr>
        <p:blipFill>
          <a:blip r:embed="rId2"/>
          <a:stretch/>
        </p:blipFill>
        <p:spPr>
          <a:xfrm>
            <a:off x="5364000" y="4149720"/>
            <a:ext cx="2994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Міністерство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 питань</a:t>
            </a: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історії рідного краю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аправляє та активізує діяльність ліцеїстів з вивчення минулого держави та рідного кра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лучає учнів до дослідження явищ соціального життя селища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ує роботу краєзнавчого об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єднання “Свята спадщина” та музею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організовує науково-практичні та просвітницькі екскурс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2424"/>
          <p:cNvPicPr/>
          <p:nvPr/>
        </p:nvPicPr>
        <p:blipFill>
          <a:blip r:embed="rId1"/>
          <a:stretch/>
        </p:blipFill>
        <p:spPr>
          <a:xfrm>
            <a:off x="971640" y="4199040"/>
            <a:ext cx="3600360" cy="23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443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закону і порядк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848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центрує свою роботу на регулюванні правових засад діяльності учнівського колективу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участь у проектній діяльності республіканц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ація роботи з формування правової культури учн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троль за дотриманням внутрішнього розпорядку та відвідуванням учнями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хист соціальних прав учнів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SAM_2181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228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MG_9565"/>
          <p:cNvPicPr/>
          <p:nvPr/>
        </p:nvPicPr>
        <p:blipFill>
          <a:blip r:embed="rId2"/>
          <a:stretch/>
        </p:blipFill>
        <p:spPr>
          <a:xfrm>
            <a:off x="1476360" y="4437000"/>
            <a:ext cx="2968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екології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здійснює роботу щодо формування в учнів ціннісного ставлення до природи, що є обов’язковою умовою сталого розвитку суспільства, узгодження економічних, екологічних і соціальних чинників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P3241106"/>
          <p:cNvPicPr/>
          <p:nvPr/>
        </p:nvPicPr>
        <p:blipFill>
          <a:blip r:embed="rId1"/>
          <a:stretch/>
        </p:blipFill>
        <p:spPr>
          <a:xfrm>
            <a:off x="1332000" y="3860640"/>
            <a:ext cx="1854000" cy="247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фото 064"/>
          <p:cNvPicPr/>
          <p:nvPr/>
        </p:nvPicPr>
        <p:blipFill>
          <a:blip r:embed="rId2"/>
          <a:stretch/>
        </p:blipFill>
        <p:spPr>
          <a:xfrm>
            <a:off x="4643280" y="3789360"/>
            <a:ext cx="32785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культу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безпечує задоволення освітньо-культурних потреб республіканц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ворює умови для розвитку творчих здібностей особистостей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рияє здобуттю практичних навичок оволодіння досягненнями вітчизняної і світової куль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548160" cy="2651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E:\50-школа\IMG_3994.JPG"/>
          <p:cNvPicPr/>
          <p:nvPr/>
        </p:nvPicPr>
        <p:blipFill>
          <a:blip r:embed="rId2"/>
          <a:stretch/>
        </p:blipFill>
        <p:spPr>
          <a:xfrm>
            <a:off x="755640" y="3429000"/>
            <a:ext cx="39495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9:02:57Z</dcterms:created>
  <dc:creator>Demo</dc:creator>
  <dc:description/>
  <dc:language>en-US</dc:language>
  <cp:lastModifiedBy>Пользователь Windows</cp:lastModifiedBy>
  <dcterms:modified xsi:type="dcterms:W3CDTF">2021-05-17T07:19:39Z</dcterms:modified>
  <cp:revision>103</cp:revision>
  <dc:subject/>
  <dc:title>Слайд 1</dc:title>
</cp:coreProperties>
</file>