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0D4-7636-4BA5-B537-86DD8DE4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F7B-B2EE-48C3-BBEA-71137F2F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E07-A40C-4062-8BA2-65CDC2FB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135-9D36-4C26-B483-54F2ECF3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A9F-9461-4485-97EE-33129796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4C3-1786-4C11-8318-7DBF46C9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A9F-AB51-41F0-A920-2924544B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517-7761-46C2-9080-37E136F4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37A-ECE5-407A-BEA3-C8A64927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8E9-9BF4-439B-B264-696CBDE4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0B0-F06C-4E7B-88C1-22A7147F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A98-DA73-49A7-8670-D129B858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ff"/>
            </a:gs>
            <a:gs pos="100000">
              <a:srgbClr val="fffa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B9C9-CC5E-45E8-900A-7A4CBCEA61D8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Республіка Ерудованої Енергійної Молоді (РЕЕМ) –</a:t>
            </a:r>
            <a:br>
              <a:rPr sz="28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шкільний осередок районної організації </a:t>
            </a:r>
            <a:br>
              <a:rPr sz="2800"/>
            </a:b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«Нове покоління Дергачівщи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423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РЕЕМ – громадська неполітична організація, що об’єднує на добровільних засадах учнівську молодь Малоданилівського ліцею, яка підтримує програму цієї організації та сприяє її здійснен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G_7710"/>
          <p:cNvPicPr/>
          <p:nvPr/>
        </p:nvPicPr>
        <p:blipFill>
          <a:blip r:embed="rId1"/>
          <a:stretch/>
        </p:blipFill>
        <p:spPr>
          <a:xfrm>
            <a:off x="1908000" y="3429000"/>
            <a:ext cx="48294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Міністерство фізичної культури і спорт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848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організовує проведення фізкультурно-спортивних заході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забезпечує участь представників ліцею у районних та обласних змаганнях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аправляє просвітницьку і пропагандистську роботу з формування фізично і духовно особист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День физрука"/>
          <p:cNvPicPr/>
          <p:nvPr/>
        </p:nvPicPr>
        <p:blipFill>
          <a:blip r:embed="rId1"/>
          <a:stretch/>
        </p:blipFill>
        <p:spPr>
          <a:xfrm>
            <a:off x="684360" y="3716280"/>
            <a:ext cx="3384360" cy="255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IMG_1932"/>
          <p:cNvPicPr/>
          <p:nvPr/>
        </p:nvPicPr>
        <p:blipFill>
          <a:blip r:embed="rId2"/>
          <a:stretch/>
        </p:blipFill>
        <p:spPr>
          <a:xfrm>
            <a:off x="4500720" y="3789360"/>
            <a:ext cx="3600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ідведення підсумкі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561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Протягом року здійснюється моніторинг діяльності міст РЕЕМ, який дозволяє визначити міста-переможці та підвести підсумки проекту «Краще місто ро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461196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Основна мета організації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 сприятливих умов для формування особистісних рис громадянина України, розвиток вільної, духовно багатої, талановитої особистості, здатної до творчої діяль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250920" y="907920"/>
            <a:ext cx="8640720" cy="5644440"/>
            <a:chOff x="250920" y="907920"/>
            <a:chExt cx="8640720" cy="5644440"/>
          </a:xfrm>
        </p:grpSpPr>
        <p:sp>
          <p:nvSpPr>
            <p:cNvPr id="47" name="Text Box 3"/>
            <p:cNvSpPr/>
            <p:nvPr/>
          </p:nvSpPr>
          <p:spPr>
            <a:xfrm>
              <a:off x="3276720" y="907920"/>
              <a:ext cx="2663640" cy="58140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000099"/>
                  </a:solidFill>
                  <a:latin typeface="Arial"/>
                </a:rPr>
                <a:t>Президен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4"/>
            <p:cNvSpPr/>
            <p:nvPr/>
          </p:nvSpPr>
          <p:spPr>
            <a:xfrm>
              <a:off x="250920" y="1844640"/>
              <a:ext cx="2663640" cy="70380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99"/>
                  </a:solidFill>
                  <a:latin typeface="Arial"/>
                </a:rPr>
                <a:t>Верхня палата парламент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5"/>
            <p:cNvSpPr/>
            <p:nvPr/>
          </p:nvSpPr>
          <p:spPr>
            <a:xfrm>
              <a:off x="6227640" y="1844640"/>
              <a:ext cx="2664000" cy="70380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99"/>
                  </a:solidFill>
                  <a:latin typeface="Arial"/>
                </a:rPr>
                <a:t>Нижня палата парламент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971640" y="3139920"/>
              <a:ext cx="7200720" cy="4597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99"/>
                  </a:solidFill>
                  <a:latin typeface="Arial"/>
                </a:rPr>
                <a:t>Кабінет міністрі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826920" y="4076640"/>
              <a:ext cx="3743640" cy="15541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освіт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наук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закону і порядк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4.   Міністерство економіки і прац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5.   Міністерство зовнішніх стос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y</a:t>
              </a: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нкі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8"/>
            <p:cNvSpPr/>
            <p:nvPr/>
          </p:nvSpPr>
          <p:spPr>
            <a:xfrm>
              <a:off x="4572000" y="4076640"/>
              <a:ext cx="3743280" cy="15541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з питань історії          рідного кра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екологі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Міністерство охорони здоров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’</a:t>
              </a:r>
              <a:r>
                <a:rPr b="1" lang="uk-UA" sz="1600" spc="-1" strike="noStrike">
                  <a:solidFill>
                    <a:srgbClr val="000099"/>
                  </a:solidFill>
                  <a:latin typeface="Arial"/>
                </a:rPr>
                <a:t>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99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Міністерство фізкультури та спорт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2124000" y="6092640"/>
              <a:ext cx="4934160" cy="459720"/>
            </a:xfrm>
            <a:prstGeom prst="rect">
              <a:avLst/>
            </a:pr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99"/>
                  </a:solidFill>
                  <a:latin typeface="Arial"/>
                </a:rPr>
                <a:t>Мери та уряди мі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H="1">
              <a:off x="2700360" y="1557000"/>
              <a:ext cx="457200" cy="114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>
              <a:off x="6012000" y="1557000"/>
              <a:ext cx="457200" cy="114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4500720" y="1699920"/>
              <a:ext cx="0" cy="119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3"/>
            <p:cNvSpPr/>
            <p:nvPr/>
          </p:nvSpPr>
          <p:spPr>
            <a:xfrm>
              <a:off x="2050920" y="2708280"/>
              <a:ext cx="72072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6443280" y="2708280"/>
              <a:ext cx="60156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H="1">
              <a:off x="2842920" y="3716280"/>
              <a:ext cx="60156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5508720" y="3716280"/>
              <a:ext cx="720720" cy="288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>
              <a:off x="3059280" y="5732280"/>
              <a:ext cx="720720" cy="28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H="1">
              <a:off x="5435280" y="5732280"/>
              <a:ext cx="601560" cy="28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19"/>
          <p:cNvSpPr/>
          <p:nvPr/>
        </p:nvSpPr>
        <p:spPr>
          <a:xfrm>
            <a:off x="0" y="0"/>
            <a:ext cx="871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і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7"/>
          <p:cNvGrpSpPr/>
          <p:nvPr/>
        </p:nvGrpSpPr>
        <p:grpSpPr>
          <a:xfrm>
            <a:off x="0" y="189000"/>
            <a:ext cx="9114840" cy="6479280"/>
            <a:chOff x="0" y="189000"/>
            <a:chExt cx="9114840" cy="6479280"/>
          </a:xfrm>
        </p:grpSpPr>
        <p:sp>
          <p:nvSpPr>
            <p:cNvPr id="65" name="Line 30"/>
            <p:cNvSpPr/>
            <p:nvPr/>
          </p:nvSpPr>
          <p:spPr>
            <a:xfrm>
              <a:off x="2124000" y="2709720"/>
              <a:ext cx="172728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3"/>
            <p:cNvSpPr/>
            <p:nvPr/>
          </p:nvSpPr>
          <p:spPr>
            <a:xfrm>
              <a:off x="3059280" y="836280"/>
              <a:ext cx="3024000" cy="58140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b8"/>
                  </a:solidFill>
                  <a:latin typeface="Arial"/>
                </a:rPr>
                <a:t>РЕЕ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"/>
            <p:cNvSpPr/>
            <p:nvPr/>
          </p:nvSpPr>
          <p:spPr>
            <a:xfrm>
              <a:off x="826920" y="1844640"/>
              <a:ext cx="3024360" cy="82548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b8"/>
                  </a:solidFill>
                  <a:latin typeface="Arial"/>
                </a:rPr>
                <a:t>Края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b8"/>
                  </a:solidFill>
                  <a:latin typeface="Arial"/>
                </a:rPr>
                <a:t>(5-8 клас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5"/>
            <p:cNvSpPr/>
            <p:nvPr/>
          </p:nvSpPr>
          <p:spPr>
            <a:xfrm>
              <a:off x="5219640" y="1844640"/>
              <a:ext cx="3024360" cy="82548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b8"/>
                  </a:solidFill>
                  <a:latin typeface="Arial"/>
                </a:rPr>
                <a:t>Рит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b8"/>
                  </a:solidFill>
                  <a:latin typeface="Arial"/>
                </a:rPr>
                <a:t>(9-11 клас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6"/>
            <p:cNvSpPr/>
            <p:nvPr/>
          </p:nvSpPr>
          <p:spPr>
            <a:xfrm>
              <a:off x="3059280" y="3141360"/>
              <a:ext cx="3024000" cy="58140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b8"/>
                  </a:solidFill>
                  <a:latin typeface="Arial"/>
                </a:rPr>
                <a:t>Міст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7"/>
            <p:cNvGrpSpPr/>
            <p:nvPr/>
          </p:nvGrpSpPr>
          <p:grpSpPr>
            <a:xfrm>
              <a:off x="0" y="4176000"/>
              <a:ext cx="4268160" cy="2492280"/>
              <a:chOff x="0" y="4176000"/>
              <a:chExt cx="4268160" cy="2492280"/>
            </a:xfrm>
          </p:grpSpPr>
          <p:sp>
            <p:nvSpPr>
              <p:cNvPr id="71" name="Text Box 8"/>
              <p:cNvSpPr/>
              <p:nvPr/>
            </p:nvSpPr>
            <p:spPr>
              <a:xfrm rot="10800000">
                <a:off x="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Дружнє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9"/>
              <p:cNvSpPr/>
              <p:nvPr/>
            </p:nvSpPr>
            <p:spPr>
              <a:xfrm rot="10800000">
                <a:off x="72072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Уда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"/>
              <p:cNvSpPr/>
              <p:nvPr/>
            </p:nvSpPr>
            <p:spPr>
              <a:xfrm rot="10800000">
                <a:off x="144144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Олімп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11"/>
              <p:cNvSpPr/>
              <p:nvPr/>
            </p:nvSpPr>
            <p:spPr>
              <a:xfrm rot="10800000">
                <a:off x="216036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Допитливи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 rot="10800000">
                <a:off x="360036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Новознання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 Box 13"/>
              <p:cNvSpPr/>
              <p:nvPr/>
            </p:nvSpPr>
            <p:spPr>
              <a:xfrm rot="10800000">
                <a:off x="288108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Зорян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4"/>
            <p:cNvGrpSpPr/>
            <p:nvPr/>
          </p:nvGrpSpPr>
          <p:grpSpPr>
            <a:xfrm>
              <a:off x="4846680" y="4176000"/>
              <a:ext cx="4268160" cy="2492280"/>
              <a:chOff x="4846680" y="4176000"/>
              <a:chExt cx="4268160" cy="2492280"/>
            </a:xfrm>
          </p:grpSpPr>
          <p:sp>
            <p:nvSpPr>
              <p:cNvPr id="78" name="Text Box 15"/>
              <p:cNvSpPr/>
              <p:nvPr/>
            </p:nvSpPr>
            <p:spPr>
              <a:xfrm rot="10800000">
                <a:off x="484668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Тінейджер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16"/>
              <p:cNvSpPr/>
              <p:nvPr/>
            </p:nvSpPr>
            <p:spPr>
              <a:xfrm rot="10800000">
                <a:off x="556740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Особлив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17"/>
              <p:cNvSpPr/>
              <p:nvPr/>
            </p:nvSpPr>
            <p:spPr>
              <a:xfrm rot="10800000">
                <a:off x="628812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Бажань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8"/>
              <p:cNvSpPr/>
              <p:nvPr/>
            </p:nvSpPr>
            <p:spPr>
              <a:xfrm rot="10800000">
                <a:off x="700704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Шукачі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19"/>
              <p:cNvSpPr/>
              <p:nvPr/>
            </p:nvSpPr>
            <p:spPr>
              <a:xfrm rot="10800000">
                <a:off x="844704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Молодіжн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20"/>
              <p:cNvSpPr/>
              <p:nvPr/>
            </p:nvSpPr>
            <p:spPr>
              <a:xfrm rot="10800000">
                <a:off x="7727760" y="4176000"/>
                <a:ext cx="667800" cy="2492280"/>
              </a:xfrm>
              <a:prstGeom prst="rect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200" spc="-1" strike="noStrike">
                    <a:solidFill>
                      <a:srgbClr val="0000b8"/>
                    </a:solidFill>
                    <a:latin typeface="Arial"/>
                  </a:rPr>
                  <a:t>Ерудит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Line 21"/>
            <p:cNvSpPr/>
            <p:nvPr/>
          </p:nvSpPr>
          <p:spPr>
            <a:xfrm flipH="1">
              <a:off x="1979640" y="1485720"/>
              <a:ext cx="931680" cy="1774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>
              <a:off x="6227640" y="1485720"/>
              <a:ext cx="865440" cy="1774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4"/>
            <p:cNvSpPr/>
            <p:nvPr/>
          </p:nvSpPr>
          <p:spPr>
            <a:xfrm>
              <a:off x="611280" y="189000"/>
              <a:ext cx="756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С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т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у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к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т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у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     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 Р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Е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Е</a:t>
              </a:r>
              <a:r>
                <a:rPr b="1" lang="en-US" sz="36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uk-UA" sz="3600" spc="-1" strike="noStrike">
                  <a:solidFill>
                    <a:srgbClr val="990033"/>
                  </a:solidFill>
                  <a:latin typeface="Arial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 flipH="1">
              <a:off x="324000" y="2709720"/>
              <a:ext cx="180000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 flipH="1">
              <a:off x="1042560" y="2709720"/>
              <a:ext cx="108108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7"/>
            <p:cNvSpPr/>
            <p:nvPr/>
          </p:nvSpPr>
          <p:spPr>
            <a:xfrm flipH="1">
              <a:off x="1763280" y="2709720"/>
              <a:ext cx="36036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2124000" y="2709720"/>
              <a:ext cx="36036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>
              <a:off x="2124000" y="2709720"/>
              <a:ext cx="100800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31"/>
            <p:cNvSpPr/>
            <p:nvPr/>
          </p:nvSpPr>
          <p:spPr>
            <a:xfrm flipH="1">
              <a:off x="5292720" y="2709720"/>
              <a:ext cx="151128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2"/>
            <p:cNvSpPr/>
            <p:nvPr/>
          </p:nvSpPr>
          <p:spPr>
            <a:xfrm flipH="1">
              <a:off x="5940000" y="2709720"/>
              <a:ext cx="86364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3"/>
            <p:cNvSpPr/>
            <p:nvPr/>
          </p:nvSpPr>
          <p:spPr>
            <a:xfrm flipH="1">
              <a:off x="6659280" y="2709720"/>
              <a:ext cx="14436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4"/>
            <p:cNvSpPr/>
            <p:nvPr/>
          </p:nvSpPr>
          <p:spPr>
            <a:xfrm>
              <a:off x="6804000" y="2709720"/>
              <a:ext cx="43200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35"/>
            <p:cNvSpPr/>
            <p:nvPr/>
          </p:nvSpPr>
          <p:spPr>
            <a:xfrm>
              <a:off x="6804000" y="2709720"/>
              <a:ext cx="115272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6"/>
            <p:cNvSpPr/>
            <p:nvPr/>
          </p:nvSpPr>
          <p:spPr>
            <a:xfrm>
              <a:off x="6804000" y="2709720"/>
              <a:ext cx="1871640" cy="1439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Arial"/>
              </a:rPr>
              <a:t>Міністерство освіти і на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47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здійснення управління органів шкільного самоврядування в галузі осві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прияння реалізації прав і виконання обо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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язків учасників навчально-виховного процесу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творення умов для творчої діяльності учнів, відповідно до їх інтересі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проведення роботи, спрямованої на формування в учнів свідомого ставлення до навч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DSC06889.JPG"/>
          <p:cNvPicPr/>
          <p:nvPr/>
        </p:nvPicPr>
        <p:blipFill>
          <a:blip r:embed="rId1"/>
          <a:stretch/>
        </p:blipFill>
        <p:spPr>
          <a:xfrm>
            <a:off x="1258920" y="4149720"/>
            <a:ext cx="30970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P4230863"/>
          <p:cNvPicPr/>
          <p:nvPr/>
        </p:nvPicPr>
        <p:blipFill>
          <a:blip r:embed="rId2"/>
          <a:stretch/>
        </p:blipFill>
        <p:spPr>
          <a:xfrm>
            <a:off x="5364000" y="4149720"/>
            <a:ext cx="29941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Міністерство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з питань</a:t>
            </a: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історії рідного краю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аправляє та активізує діяльність ліцеїстів з вивчення минулого держави та рідного краю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залучає учнів до дослідження явищ соціального життя селища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ординує роботу краєзнавчого об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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єднання “Свята спадщина” та музею ліцею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організовує науково-практичні та просвітницькі екскурс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2424"/>
          <p:cNvPicPr/>
          <p:nvPr/>
        </p:nvPicPr>
        <p:blipFill>
          <a:blip r:embed="rId1"/>
          <a:stretch/>
        </p:blipFill>
        <p:spPr>
          <a:xfrm>
            <a:off x="971640" y="4199040"/>
            <a:ext cx="3600360" cy="235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4434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Міністерство закону і порядк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8483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нцентрує свою роботу на регулюванні правових засад діяльності учнівського колективу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участь у проектній діяльності республіканців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ординація роботи з формування правової культури учнів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онтроль за дотриманням внутрішнього розпорядку та відвідуванням учнями ліцею</a:t>
            </a:r>
            <a:r>
              <a:rPr b="0" lang="uk-UA" sz="24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захист соціальних прав учнів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SAM_2181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228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IMG_9565"/>
          <p:cNvPicPr/>
          <p:nvPr/>
        </p:nvPicPr>
        <p:blipFill>
          <a:blip r:embed="rId2"/>
          <a:stretch/>
        </p:blipFill>
        <p:spPr>
          <a:xfrm>
            <a:off x="1476360" y="4437000"/>
            <a:ext cx="29685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Міністерство екології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здійснює роботу щодо формування в учнів ціннісного ставлення до природи, що є обов’язковою умовою сталого розвитку суспільства, узгодження економічних, екологічних і соціальних чинників розви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P3241106"/>
          <p:cNvPicPr/>
          <p:nvPr/>
        </p:nvPicPr>
        <p:blipFill>
          <a:blip r:embed="rId1"/>
          <a:stretch/>
        </p:blipFill>
        <p:spPr>
          <a:xfrm>
            <a:off x="1332000" y="3860640"/>
            <a:ext cx="1854000" cy="247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фото 064"/>
          <p:cNvPicPr/>
          <p:nvPr/>
        </p:nvPicPr>
        <p:blipFill>
          <a:blip r:embed="rId2"/>
          <a:stretch/>
        </p:blipFill>
        <p:spPr>
          <a:xfrm>
            <a:off x="4643280" y="3789360"/>
            <a:ext cx="32785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Міністерство культур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безпечує задоволення освітньо-культурних потреб республіканців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ворює умови для розвитку творчих здібностей особистостей</a:t>
            </a:r>
            <a:r>
              <a:rPr b="0" lang="uk-UA" sz="2000" spc="-1" strike="noStrike">
                <a:solidFill>
                  <a:srgbClr val="333399"/>
                </a:solidFill>
                <a:latin typeface="Symbol"/>
                <a:ea typeface="Symbol"/>
              </a:rPr>
              <a:t>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рияє здобуттю практичних навичок оволодіння досягненнями вітчизняної і світової куль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5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548160" cy="2651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E:\50-школа\IMG_3994.JPG"/>
          <p:cNvPicPr/>
          <p:nvPr/>
        </p:nvPicPr>
        <p:blipFill>
          <a:blip r:embed="rId2"/>
          <a:stretch/>
        </p:blipFill>
        <p:spPr>
          <a:xfrm>
            <a:off x="755640" y="3429000"/>
            <a:ext cx="39495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9:02:57Z</dcterms:created>
  <dc:creator>Demo</dc:creator>
  <dc:description/>
  <dc:language>en-US</dc:language>
  <cp:lastModifiedBy>Пользователь Windows</cp:lastModifiedBy>
  <dcterms:modified xsi:type="dcterms:W3CDTF">2021-05-17T07:19:39Z</dcterms:modified>
  <cp:revision>103</cp:revision>
  <dc:subject/>
  <dc:title>Слайд 1</dc:title>
</cp:coreProperties>
</file>