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354-012C-4FD9-8202-80FE43A6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C8B-DBD4-480A-9C90-5305EE9C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0E5-8E10-4E96-A191-11DA0687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03F-0596-47F6-B872-5EC3E3C0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D94-55A8-45AA-8577-CB1C626B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B2A-2E05-43BE-9265-AD4436D3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9A8-C27F-44FA-9FC8-756A12A7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3A2-C06E-4BC8-AC75-7F6A4B05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434-9270-4716-85A3-54EADF0C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125-A706-469C-B8D5-7F23D1A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C20-CA47-4D3F-9CBC-B72C2ECF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C6C-43D6-4824-93FC-F0A1A9C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ff"/>
            </a:gs>
            <a:gs pos="100000">
              <a:srgbClr val="fffa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045C-0156-400D-963E-117BFA2C242D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Республіка Ерудованої Енергійної Молоді (РЕЕМ) –</a:t>
            </a:r>
            <a:br>
              <a:rPr sz="28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шкільний осередок районної організації </a:t>
            </a:r>
            <a:br>
              <a:rPr sz="28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«Нове покоління Дергачівщи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423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РЕЕМ – громадська неполітична організація, що об’єднує на добровільних засадах учнівську молодь Малоданилівського ліцею, яка підтримує програму цієї організації та сприяє її здійснен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G_7710"/>
          <p:cNvPicPr/>
          <p:nvPr/>
        </p:nvPicPr>
        <p:blipFill>
          <a:blip r:embed="rId1"/>
          <a:stretch/>
        </p:blipFill>
        <p:spPr>
          <a:xfrm>
            <a:off x="1908000" y="3429000"/>
            <a:ext cx="48294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Міністерство фізичної культури і спор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848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організовує проведення фізкультурно-спортивних заход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абезпечує участь представників ліцею у районних та обласних змаганнях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аправляє просвітницьку і пропагандистську роботу з формування фізично і духовно особист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День физрука"/>
          <p:cNvPicPr/>
          <p:nvPr/>
        </p:nvPicPr>
        <p:blipFill>
          <a:blip r:embed="rId1"/>
          <a:stretch/>
        </p:blipFill>
        <p:spPr>
          <a:xfrm>
            <a:off x="684360" y="3716280"/>
            <a:ext cx="3384360" cy="25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IMG_1932"/>
          <p:cNvPicPr/>
          <p:nvPr/>
        </p:nvPicPr>
        <p:blipFill>
          <a:blip r:embed="rId2"/>
          <a:stretch/>
        </p:blipFill>
        <p:spPr>
          <a:xfrm>
            <a:off x="4500720" y="3789360"/>
            <a:ext cx="3600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ідведення підсумкі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561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Протягом року здійснюється моніторинг діяльності міст РЕЕМ, який дозволяє визначити міста-переможці та підвести підсумки проекту «Краще місто ро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61196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Основна мета організації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 сприятливих умов для формування особистісних рис громадянина України, розвиток вільної, духовно багатої, талановитої особистості, здатної до творчої діяль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250920" y="907920"/>
            <a:ext cx="8640720" cy="5644440"/>
            <a:chOff x="250920" y="907920"/>
            <a:chExt cx="8640720" cy="5644440"/>
          </a:xfrm>
        </p:grpSpPr>
        <p:sp>
          <p:nvSpPr>
            <p:cNvPr id="47" name="Text Box 3"/>
            <p:cNvSpPr/>
            <p:nvPr/>
          </p:nvSpPr>
          <p:spPr>
            <a:xfrm>
              <a:off x="3276720" y="907920"/>
              <a:ext cx="2663640" cy="5814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00099"/>
                  </a:solidFill>
                  <a:latin typeface="Arial"/>
                </a:rPr>
                <a:t>Президен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250920" y="1844640"/>
              <a:ext cx="2663640" cy="7038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99"/>
                  </a:solidFill>
                  <a:latin typeface="Arial"/>
                </a:rPr>
                <a:t>Верхня палата парламент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5"/>
            <p:cNvSpPr/>
            <p:nvPr/>
          </p:nvSpPr>
          <p:spPr>
            <a:xfrm>
              <a:off x="6227640" y="1844640"/>
              <a:ext cx="2664000" cy="7038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99"/>
                  </a:solidFill>
                  <a:latin typeface="Arial"/>
                </a:rPr>
                <a:t>Нижня палата парламент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971640" y="3139920"/>
              <a:ext cx="7200720" cy="4597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99"/>
                  </a:solidFill>
                  <a:latin typeface="Arial"/>
                </a:rPr>
                <a:t>Кабінет міністрі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826920" y="4076640"/>
              <a:ext cx="3743640" cy="15541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освіт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нау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закону і порядк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4.   Міністерство економіки і прац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5.   Міністерство зовнішніх стос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y</a:t>
              </a: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нкі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>
              <a:off x="4572000" y="4076640"/>
              <a:ext cx="3743280" cy="15541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з питань історії          рідного кра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екологі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охорони здоров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’</a:t>
              </a: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Міністерство фізкультури та спорт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2124000" y="6092640"/>
              <a:ext cx="4934160" cy="4597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99"/>
                  </a:solidFill>
                  <a:latin typeface="Arial"/>
                </a:rPr>
                <a:t>Мери та уряди мі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2700360" y="1557000"/>
              <a:ext cx="457200" cy="114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6012000" y="1557000"/>
              <a:ext cx="457200" cy="114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4500720" y="1699920"/>
              <a:ext cx="0" cy="119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2050920" y="2708280"/>
              <a:ext cx="72072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6443280" y="2708280"/>
              <a:ext cx="60156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H="1">
              <a:off x="2842920" y="3716280"/>
              <a:ext cx="60156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5508720" y="3716280"/>
              <a:ext cx="72072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>
              <a:off x="3059280" y="5732280"/>
              <a:ext cx="720720" cy="28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H="1">
              <a:off x="5435280" y="5732280"/>
              <a:ext cx="601560" cy="28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19"/>
          <p:cNvSpPr/>
          <p:nvPr/>
        </p:nvSpPr>
        <p:spPr>
          <a:xfrm>
            <a:off x="0" y="0"/>
            <a:ext cx="871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і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7"/>
          <p:cNvGrpSpPr/>
          <p:nvPr/>
        </p:nvGrpSpPr>
        <p:grpSpPr>
          <a:xfrm>
            <a:off x="0" y="189000"/>
            <a:ext cx="9114840" cy="6479280"/>
            <a:chOff x="0" y="189000"/>
            <a:chExt cx="9114840" cy="6479280"/>
          </a:xfrm>
        </p:grpSpPr>
        <p:sp>
          <p:nvSpPr>
            <p:cNvPr id="65" name="Line 30"/>
            <p:cNvSpPr/>
            <p:nvPr/>
          </p:nvSpPr>
          <p:spPr>
            <a:xfrm>
              <a:off x="2124000" y="2709720"/>
              <a:ext cx="17272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"/>
            <p:cNvSpPr/>
            <p:nvPr/>
          </p:nvSpPr>
          <p:spPr>
            <a:xfrm>
              <a:off x="3059280" y="836280"/>
              <a:ext cx="3024000" cy="58140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b8"/>
                  </a:solidFill>
                  <a:latin typeface="Arial"/>
                </a:rPr>
                <a:t>РЕЕ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"/>
            <p:cNvSpPr/>
            <p:nvPr/>
          </p:nvSpPr>
          <p:spPr>
            <a:xfrm>
              <a:off x="826920" y="1844640"/>
              <a:ext cx="3024360" cy="82548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b8"/>
                  </a:solidFill>
                  <a:latin typeface="Arial"/>
                </a:rPr>
                <a:t>Края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b8"/>
                  </a:solidFill>
                  <a:latin typeface="Arial"/>
                </a:rPr>
                <a:t>(5-8 клас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"/>
            <p:cNvSpPr/>
            <p:nvPr/>
          </p:nvSpPr>
          <p:spPr>
            <a:xfrm>
              <a:off x="5219640" y="1844640"/>
              <a:ext cx="3024360" cy="82548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b8"/>
                  </a:solidFill>
                  <a:latin typeface="Arial"/>
                </a:rPr>
                <a:t>Рит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b8"/>
                  </a:solidFill>
                  <a:latin typeface="Arial"/>
                </a:rPr>
                <a:t>(9-11 клас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3059280" y="3141360"/>
              <a:ext cx="3024000" cy="58140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b8"/>
                  </a:solidFill>
                  <a:latin typeface="Arial"/>
                </a:rPr>
                <a:t>Міст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7"/>
            <p:cNvGrpSpPr/>
            <p:nvPr/>
          </p:nvGrpSpPr>
          <p:grpSpPr>
            <a:xfrm>
              <a:off x="0" y="4176000"/>
              <a:ext cx="4268160" cy="2492280"/>
              <a:chOff x="0" y="4176000"/>
              <a:chExt cx="4268160" cy="2492280"/>
            </a:xfrm>
          </p:grpSpPr>
          <p:sp>
            <p:nvSpPr>
              <p:cNvPr id="71" name="Text Box 8"/>
              <p:cNvSpPr/>
              <p:nvPr/>
            </p:nvSpPr>
            <p:spPr>
              <a:xfrm rot="10800000">
                <a:off x="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Дружнє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9"/>
              <p:cNvSpPr/>
              <p:nvPr/>
            </p:nvSpPr>
            <p:spPr>
              <a:xfrm rot="10800000">
                <a:off x="72072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Уда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"/>
              <p:cNvSpPr/>
              <p:nvPr/>
            </p:nvSpPr>
            <p:spPr>
              <a:xfrm rot="10800000">
                <a:off x="14414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Олім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1"/>
              <p:cNvSpPr/>
              <p:nvPr/>
            </p:nvSpPr>
            <p:spPr>
              <a:xfrm rot="10800000">
                <a:off x="21603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Допитливи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 rot="10800000">
                <a:off x="36003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Новознання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13"/>
              <p:cNvSpPr/>
              <p:nvPr/>
            </p:nvSpPr>
            <p:spPr>
              <a:xfrm rot="10800000">
                <a:off x="288108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Зорян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4"/>
            <p:cNvGrpSpPr/>
            <p:nvPr/>
          </p:nvGrpSpPr>
          <p:grpSpPr>
            <a:xfrm>
              <a:off x="4846680" y="4176000"/>
              <a:ext cx="4268160" cy="2492280"/>
              <a:chOff x="4846680" y="4176000"/>
              <a:chExt cx="4268160" cy="2492280"/>
            </a:xfrm>
          </p:grpSpPr>
          <p:sp>
            <p:nvSpPr>
              <p:cNvPr id="78" name="Text Box 15"/>
              <p:cNvSpPr/>
              <p:nvPr/>
            </p:nvSpPr>
            <p:spPr>
              <a:xfrm rot="10800000">
                <a:off x="484668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Тінейджер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16"/>
              <p:cNvSpPr/>
              <p:nvPr/>
            </p:nvSpPr>
            <p:spPr>
              <a:xfrm rot="10800000">
                <a:off x="556740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Особлив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17"/>
              <p:cNvSpPr/>
              <p:nvPr/>
            </p:nvSpPr>
            <p:spPr>
              <a:xfrm rot="10800000">
                <a:off x="628812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Бажань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8"/>
              <p:cNvSpPr/>
              <p:nvPr/>
            </p:nvSpPr>
            <p:spPr>
              <a:xfrm rot="10800000">
                <a:off x="70070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Шукачі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19"/>
              <p:cNvSpPr/>
              <p:nvPr/>
            </p:nvSpPr>
            <p:spPr>
              <a:xfrm rot="10800000">
                <a:off x="84470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Молодіжн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20"/>
              <p:cNvSpPr/>
              <p:nvPr/>
            </p:nvSpPr>
            <p:spPr>
              <a:xfrm rot="10800000">
                <a:off x="77277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Ерудит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Line 21"/>
            <p:cNvSpPr/>
            <p:nvPr/>
          </p:nvSpPr>
          <p:spPr>
            <a:xfrm flipH="1">
              <a:off x="1979640" y="1485720"/>
              <a:ext cx="931680" cy="1774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6227640" y="1485720"/>
              <a:ext cx="865440" cy="1774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611280" y="189000"/>
              <a:ext cx="756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С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т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у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к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т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у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     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 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Е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Е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 flipH="1">
              <a:off x="324000" y="2709720"/>
              <a:ext cx="1800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 flipH="1">
              <a:off x="1042560" y="2709720"/>
              <a:ext cx="10810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 flipH="1">
              <a:off x="1763280" y="2709720"/>
              <a:ext cx="360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2124000" y="2709720"/>
              <a:ext cx="360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2124000" y="2709720"/>
              <a:ext cx="1008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31"/>
            <p:cNvSpPr/>
            <p:nvPr/>
          </p:nvSpPr>
          <p:spPr>
            <a:xfrm flipH="1">
              <a:off x="5292720" y="2709720"/>
              <a:ext cx="15112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2"/>
            <p:cNvSpPr/>
            <p:nvPr/>
          </p:nvSpPr>
          <p:spPr>
            <a:xfrm flipH="1">
              <a:off x="5940000" y="2709720"/>
              <a:ext cx="86364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3"/>
            <p:cNvSpPr/>
            <p:nvPr/>
          </p:nvSpPr>
          <p:spPr>
            <a:xfrm flipH="1">
              <a:off x="6659280" y="2709720"/>
              <a:ext cx="144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4"/>
            <p:cNvSpPr/>
            <p:nvPr/>
          </p:nvSpPr>
          <p:spPr>
            <a:xfrm>
              <a:off x="6804000" y="2709720"/>
              <a:ext cx="432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5"/>
            <p:cNvSpPr/>
            <p:nvPr/>
          </p:nvSpPr>
          <p:spPr>
            <a:xfrm>
              <a:off x="6804000" y="2709720"/>
              <a:ext cx="115272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6"/>
            <p:cNvSpPr/>
            <p:nvPr/>
          </p:nvSpPr>
          <p:spPr>
            <a:xfrm>
              <a:off x="6804000" y="2709720"/>
              <a:ext cx="187164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Arial"/>
              </a:rPr>
              <a:t>Міністерство освіти і н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47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дійснення управління органів шкільного самоврядування в галузі осві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прияння реалізації прав і виконання обо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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язків учасників навчально-виховного процесу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творення умов для творчої діяльності учнів, відповідно до їх інтерес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проведення роботи, спрямованої на формування в учнів свідомого ставлення до навч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DSC06889.JPG"/>
          <p:cNvPicPr/>
          <p:nvPr/>
        </p:nvPicPr>
        <p:blipFill>
          <a:blip r:embed="rId1"/>
          <a:stretch/>
        </p:blipFill>
        <p:spPr>
          <a:xfrm>
            <a:off x="1258920" y="4149720"/>
            <a:ext cx="30970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P4230863"/>
          <p:cNvPicPr/>
          <p:nvPr/>
        </p:nvPicPr>
        <p:blipFill>
          <a:blip r:embed="rId2"/>
          <a:stretch/>
        </p:blipFill>
        <p:spPr>
          <a:xfrm>
            <a:off x="5364000" y="4149720"/>
            <a:ext cx="2994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Міністерство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з питань</a:t>
            </a: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історії рідного краю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аправляє та активізує діяльність ліцеїстів з вивчення минулого держави та рідного кра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залучає учнів до дослідження явищ соціального життя селища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ординує роботу краєзнавчого об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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єднання “Свята спадщина” та музею ліце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організовує науково-практичні та просвітницькі екскурс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2424"/>
          <p:cNvPicPr/>
          <p:nvPr/>
        </p:nvPicPr>
        <p:blipFill>
          <a:blip r:embed="rId1"/>
          <a:stretch/>
        </p:blipFill>
        <p:spPr>
          <a:xfrm>
            <a:off x="971640" y="4199040"/>
            <a:ext cx="3600360" cy="23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4434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закону і порядк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8483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нцентрує свою роботу на регулюванні правових засад діяльності учнівського колективу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участь у проектній діяльності республіканців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ординація роботи з формування правової культури учнів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нтроль за дотриманням внутрішнього розпорядку та відвідуванням учнями ліце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захист соціальних прав учнів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SAM_2181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228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IMG_9565"/>
          <p:cNvPicPr/>
          <p:nvPr/>
        </p:nvPicPr>
        <p:blipFill>
          <a:blip r:embed="rId2"/>
          <a:stretch/>
        </p:blipFill>
        <p:spPr>
          <a:xfrm>
            <a:off x="1476360" y="4437000"/>
            <a:ext cx="2968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екології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здійснює роботу щодо формування в учнів ціннісного ставлення до природи, що є обов’язковою умовою сталого розвитку суспільства, узгодження економічних, екологічних і соціальних чинників розви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P3241106"/>
          <p:cNvPicPr/>
          <p:nvPr/>
        </p:nvPicPr>
        <p:blipFill>
          <a:blip r:embed="rId1"/>
          <a:stretch/>
        </p:blipFill>
        <p:spPr>
          <a:xfrm>
            <a:off x="1332000" y="3860640"/>
            <a:ext cx="1854000" cy="247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фото 064"/>
          <p:cNvPicPr/>
          <p:nvPr/>
        </p:nvPicPr>
        <p:blipFill>
          <a:blip r:embed="rId2"/>
          <a:stretch/>
        </p:blipFill>
        <p:spPr>
          <a:xfrm>
            <a:off x="4643280" y="3789360"/>
            <a:ext cx="32785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культур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безпечує задоволення освітньо-культурних потреб республіканц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ворює умови для розвитку творчих здібностей особистостей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рияє здобуттю практичних навичок оволодіння досягненнями вітчизняної і світової куль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548160" cy="2651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E:\50-школа\IMG_3994.JPG"/>
          <p:cNvPicPr/>
          <p:nvPr/>
        </p:nvPicPr>
        <p:blipFill>
          <a:blip r:embed="rId2"/>
          <a:stretch/>
        </p:blipFill>
        <p:spPr>
          <a:xfrm>
            <a:off x="755640" y="3429000"/>
            <a:ext cx="39495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9:02:57Z</dcterms:created>
  <dc:creator>Demo</dc:creator>
  <dc:description/>
  <dc:language>en-US</dc:language>
  <cp:lastModifiedBy>Пользователь Windows</cp:lastModifiedBy>
  <dcterms:modified xsi:type="dcterms:W3CDTF">2021-05-17T07:19:39Z</dcterms:modified>
  <cp:revision>103</cp:revision>
  <dc:subject/>
  <dc:title>Слайд 1</dc:title>
</cp:coreProperties>
</file>