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49C-9725-4773-A6D9-CD8F3A6B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49E-2E77-41EC-AD1F-C0CE39D4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772-F061-4EA2-A765-FC0DB24F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CA7-2B70-42D3-AADC-19A09CBC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0AD-7B3F-47ED-A027-AFE3090E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53D-9FC3-45AA-962F-E059EC20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224-5AEC-4511-AB3C-3457D2A4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887-8DC5-44D8-92BB-B104F589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7FD-E9CB-45A4-BE92-8276636C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A39-CA13-42B8-B3B3-9554C15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221-94B2-4430-8EB5-201ECB48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36D-4FE9-4A6D-8CB1-BE9D1DA0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622-6236-4044-8CD4-3A653954B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989000"/>
            <a:ext cx="7416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2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749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ознайомлення з процедурами проведення 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учасника пробного З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 і схеми оцінювання на пункті пробного тест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907560"/>
            <a:ext cx="7777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часників з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 по 30 листопада 2011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круг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 м. Харків, м. Лозова, м.Ку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нськ, м.Красноград, м. Ізюм, м.Балакл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рміни провед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63640" y="2852640"/>
          <a:ext cx="7094520" cy="3240360"/>
        </p:xfrm>
        <a:graphic>
          <a:graphicData uri="http://schemas.openxmlformats.org/drawingml/2006/table">
            <a:tbl>
              <a:tblPr/>
              <a:tblGrid>
                <a:gridCol w="3687840"/>
                <a:gridCol w="340668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березня 2012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березня 2012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619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ХЕМА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ЄСТРАЦІЇ НА 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908000" y="981000"/>
            <a:ext cx="7056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 сайті ХРЦОЯО </a:t>
            </a:r>
            <a:r>
              <a:rPr b="1" lang="en-US" sz="2200" spc="-1" strike="noStrike" u="sng">
                <a:solidFill>
                  <a:srgbClr val="ff5050"/>
                </a:solidFill>
                <a:uFillTx/>
                <a:latin typeface="Arial"/>
              </a:rPr>
              <a:t>www.zno-kharkiv.org.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розділі “Пробне ЗНО”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знайомитися із Умовами проведенн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дійснити електронну реєстраці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йти на Персональну сторін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друкувати Заяву та квитанції для сплати     послуг за проведення пробних тестува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повнити Заяву та надіслати поштою на адресу ХРЦОЯ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платити послуги з проведення пробного тестування протягом 3-х робочих днів після електронної реєстрації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вірити надходження оплати та Заяви на своїй персональній сторінці (через 10 днів після сплати та відправки Заяв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друкувати запрошення (з 01 лютого 2012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Zver</cp:lastModifiedBy>
  <dcterms:modified xsi:type="dcterms:W3CDTF">2011-10-31T13:04:33Z</dcterms:modified>
  <cp:revision>66</cp:revision>
  <dc:subject/>
  <dc:title>Слайд 1</dc:title>
</cp:coreProperties>
</file>