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418A-1047-4968-9432-5256ED496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1728-A112-4F19-A009-A5D5338D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5C41-5106-46C8-B3D3-AA0CE1D7D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100B-5328-4DDF-85B7-0F2A64AF9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BB86-10FC-440D-858F-25A93B20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766B-F74C-4437-8930-F9A73B9D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1C0E-197F-4B5A-84D8-B18BD855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38BF-430A-4521-A00D-7A7DDA9D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85BD-49DD-475D-8F21-CF280CE7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B40D-DDF8-4E9C-BEC2-97EB6CA3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EC8D-BC8F-40CC-BE3D-290A7314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7C16-4733-4FB3-8E2C-6F3ECA5E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FAF3-387C-4676-B93F-84F42C39D6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42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Заголовок 1"/>
          <p:cNvSpPr/>
          <p:nvPr/>
        </p:nvSpPr>
        <p:spPr>
          <a:xfrm>
            <a:off x="1727280" y="1989000"/>
            <a:ext cx="74167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БНЕ</a:t>
            </a:r>
            <a:br>
              <a:rPr sz="6600"/>
            </a:b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ОВНІШНЄ НЕЗАЛЕЖНЕ ОЦІНЮВАННЯ  </a:t>
            </a:r>
            <a:r>
              <a:rPr b="0" lang="en-US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012</a:t>
            </a: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рок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БНЕ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НО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08000" y="1528560"/>
            <a:ext cx="723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749"/>
              </a:spcBef>
              <a:buClr>
                <a:srgbClr val="ff505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Мета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- ознайомлення з процедурами проведення З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749"/>
              </a:spcBef>
              <a:buClr>
                <a:srgbClr val="ff505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учасника пробного З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значається самостійно після виконання всіх завдань та отримання правильних відповідей і схеми оцінювання на пункті пробного тестува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49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БНЕ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НО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47640" y="907560"/>
            <a:ext cx="777744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Реєстрація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учасників з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 по 30 листопада 2011р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Округи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–  м. Харків, м. Лозова, м.Ку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нськ, м.Красноград, м. Ізюм, м.Балакл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ерміни провед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63640" y="2852640"/>
          <a:ext cx="7094520" cy="3240360"/>
        </p:xfrm>
        <a:graphic>
          <a:graphicData uri="http://schemas.openxmlformats.org/drawingml/2006/table">
            <a:tbl>
              <a:tblPr/>
              <a:tblGrid>
                <a:gridCol w="3687840"/>
                <a:gridCol w="340668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березня 2012 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 березня 2012 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раїнська мова і лі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іолог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із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ноземна мов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світня істор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сторія Украї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ім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ійська м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5" name="Group 2"/>
          <p:cNvGrpSpPr/>
          <p:nvPr/>
        </p:nvGrpSpPr>
        <p:grpSpPr>
          <a:xfrm>
            <a:off x="0" y="189000"/>
            <a:ext cx="1692360" cy="6408720"/>
            <a:chOff x="0" y="189000"/>
            <a:chExt cx="1692360" cy="6408720"/>
          </a:xfrm>
        </p:grpSpPr>
        <p:pic>
          <p:nvPicPr>
            <p:cNvPr id="56" name="Picture 3" descr="logo"/>
            <p:cNvPicPr/>
            <p:nvPr/>
          </p:nvPicPr>
          <p:blipFill>
            <a:blip r:embed="rId1"/>
            <a:stretch/>
          </p:blipFill>
          <p:spPr>
            <a:xfrm>
              <a:off x="69480" y="476280"/>
              <a:ext cx="12308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Rectangle 2"/>
            <p:cNvSpPr/>
            <p:nvPr/>
          </p:nvSpPr>
          <p:spPr>
            <a:xfrm>
              <a:off x="0" y="1773360"/>
              <a:ext cx="169236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5"/>
            <p:cNvSpPr/>
            <p:nvPr/>
          </p:nvSpPr>
          <p:spPr>
            <a:xfrm>
              <a:off x="155088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60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Заголовок 1"/>
          <p:cNvSpPr/>
          <p:nvPr/>
        </p:nvSpPr>
        <p:spPr>
          <a:xfrm>
            <a:off x="1619280" y="333360"/>
            <a:ext cx="7740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ХЕМА</a:t>
            </a: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ЕЄСТРАЦІЇ НА ПРОБНЕ З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908000" y="981000"/>
            <a:ext cx="705672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На сайті ХРЦОЯО </a:t>
            </a:r>
            <a:r>
              <a:rPr b="1" lang="en-US" sz="2200" spc="-1" strike="noStrike" u="sng">
                <a:solidFill>
                  <a:srgbClr val="ff5050"/>
                </a:solidFill>
                <a:uFillTx/>
                <a:latin typeface="Arial"/>
              </a:rPr>
              <a:t>www.zno-kharkiv.org.u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у розділі “Пробне ЗНО”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ознайомитися із Умовами проведенн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дійснити електронну реєстраці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айти на Персональну сторінк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оздрукувати Заяву та квитанції для сплати     послуг за проведення пробних тестуван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аповнити Заяву та надіслати поштою на адресу ХРЦОЯ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Оплатити послуги з проведення пробного тестування протягом 3-х робочих днів після електронної реєстрації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еревірити надходження оплати та Заяви на своїй персональній сторінці (через 10 днів після сплати та відправки Заяв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оздрукувати запрошення (з 01 лютого 2012р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66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 Box 8"/>
          <p:cNvSpPr/>
          <p:nvPr/>
        </p:nvSpPr>
        <p:spPr>
          <a:xfrm>
            <a:off x="1908000" y="765000"/>
            <a:ext cx="723600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Телефон інформаційної служб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(057)705-06-56, 705-07-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ак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(057)705-15-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Електронна пош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office@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ай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орум: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ww.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Адре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майдан Свободи, 6, офіс 463, м. Харків, 610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8:13:26Z</dcterms:created>
  <dc:creator>N.Rusanova</dc:creator>
  <dc:description/>
  <dc:language>en-US</dc:language>
  <cp:lastModifiedBy>Zver</cp:lastModifiedBy>
  <dcterms:modified xsi:type="dcterms:W3CDTF">2011-10-31T13:04:33Z</dcterms:modified>
  <cp:revision>66</cp:revision>
  <dc:subject/>
  <dc:title>Слайд 1</dc:title>
</cp:coreProperties>
</file>