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379-B01B-4966-988E-A94EC3B9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E52-7461-4BB0-9BC2-C3DB29AB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754-9687-4023-B2D0-D981B4BE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AB3-DE40-4905-A755-55B74442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CCD-5E79-4273-8BDC-B42D247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2E5-8928-4286-92E7-FD26BC6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70C-4C39-4B32-91FD-5AE48E0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3E7-873F-4620-9B0D-078318F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F49-98F6-4392-8A3F-669B5C84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675-6FBE-47F0-A24D-884627B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811-FEDD-4185-A987-D6194E6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A4E-599B-4FCD-8446-9C6EB6EC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77A7-EA92-4D79-8684-17FAF2E0D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989000"/>
            <a:ext cx="74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2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ознайомлення з процедурами проведення 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учасника пробного З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 і схеми оцінювання на пункті пробного тест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часників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1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 м. Харків, м. Лозова, м.К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нськ, м.Красноград, м. Ізюм, м.Балакл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094520" cy="3240360"/>
        </p:xfrm>
        <a:graphic>
          <a:graphicData uri="http://schemas.openxmlformats.org/drawingml/2006/table">
            <a:tbl>
              <a:tblPr/>
              <a:tblGrid>
                <a:gridCol w="3687840"/>
                <a:gridCol w="340668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березня 2012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619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ХЕМА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ЄСТРАЦІЇ НА 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908000" y="981000"/>
            <a:ext cx="7056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 сайті ХРЦОЯО </a:t>
            </a:r>
            <a:r>
              <a:rPr b="1" lang="en-US" sz="2200" spc="-1" strike="noStrike" u="sng">
                <a:solidFill>
                  <a:srgbClr val="ff5050"/>
                </a:solidFill>
                <a:uFillTx/>
                <a:latin typeface="Arial"/>
              </a:rPr>
              <a:t>www.zno-kharkiv.org.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розділі “Пробне ЗНО”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знайомитися із Умовами проведенн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дійснити електронну реєстраці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йти на Персональну сторін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яву та квитанції для сплати     послуг за проведення пробних тестува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овнити Заяву та надіслати поштою на адресу ХРЦОЯ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платити послуги з проведення пробного тестування протягом 3-х робочих днів після електронної реєстрації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вірити надходження оплати та Заяви на своїй персональній сторінці (через 10 днів після сплати та відправки Заяв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друкувати запрошення (з 01 лютого 2012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6-56,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Zver</cp:lastModifiedBy>
  <dcterms:modified xsi:type="dcterms:W3CDTF">2011-10-31T13:04:33Z</dcterms:modified>
  <cp:revision>66</cp:revision>
  <dc:subject/>
  <dc:title>Слайд 1</dc:title>
</cp:coreProperties>
</file>