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27C-2DD7-4A86-AAD6-4FF6E3B9A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B3A3-1014-423F-9DF0-DC1CD5982E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668-B63E-4ACE-8986-C3F7DADB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783-96DE-4120-BA23-8D88CE0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2D6-BC41-44FD-8378-D7CFBEA3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D37-6F06-4510-BB54-E4EA08F6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076-9A2A-4840-A4AB-9C6FB9F0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49D-7E3F-44E2-870B-E7652347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DD5-3D2F-40DC-A0D4-748B0437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E85-95A8-4E05-9C23-D3855603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EB3-397F-4166-8079-7366CF0B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E00-4212-4EDE-B4EE-EC92367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665-12D9-4D9A-B3AF-A874159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0D4-93D3-4245-9E7E-019B3BF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A0A5-FB5F-4EA6-922E-C013E05FF2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487440" y="622440"/>
            <a:ext cx="8454960" cy="6229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395280" y="189000"/>
            <a:ext cx="813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ЗНО -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3" descr=""/>
          <p:cNvPicPr/>
          <p:nvPr/>
        </p:nvPicPr>
        <p:blipFill>
          <a:blip r:embed="rId1"/>
          <a:stretch/>
        </p:blipFill>
        <p:spPr>
          <a:xfrm>
            <a:off x="-517680" y="152280"/>
            <a:ext cx="985068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 flipH="1">
            <a:off x="6877080" y="1989000"/>
            <a:ext cx="1992240" cy="125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6881760" y="2205000"/>
            <a:ext cx="2262240" cy="13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401760" y="1557360"/>
            <a:ext cx="8742240" cy="4680000"/>
            <a:chOff x="401760" y="1557360"/>
            <a:chExt cx="8742240" cy="4680000"/>
          </a:xfrm>
        </p:grpSpPr>
        <p:grpSp>
          <p:nvGrpSpPr>
            <p:cNvPr id="54" name="Фигура, имеющая форму буквы L 13"/>
            <p:cNvGrpSpPr/>
            <p:nvPr/>
          </p:nvGrpSpPr>
          <p:grpSpPr>
            <a:xfrm>
              <a:off x="401760" y="2656080"/>
              <a:ext cx="4211640" cy="2511720"/>
              <a:chOff x="401760" y="2656080"/>
              <a:chExt cx="4211640" cy="2511720"/>
            </a:xfrm>
          </p:grpSpPr>
          <p:pic>
            <p:nvPicPr>
              <p:cNvPr id="55" name="Фигура, имеющая форму буквы L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760" y="2656080"/>
                <a:ext cx="4211640" cy="25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5400000">
                <a:off x="2315160" y="837000"/>
                <a:ext cx="385200" cy="40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Полилиния 14"/>
            <p:cNvSpPr/>
            <p:nvPr/>
          </p:nvSpPr>
          <p:spPr>
            <a:xfrm>
              <a:off x="866880" y="3086640"/>
              <a:ext cx="369756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Колегія Міністерства освіти і науки України ухвалила провести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пробаційне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орівневих (рівень В1 і рівень В2)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Равнобедренный треугольник 15"/>
            <p:cNvGrpSpPr/>
            <p:nvPr/>
          </p:nvGrpSpPr>
          <p:grpSpPr>
            <a:xfrm>
              <a:off x="3795120" y="1557360"/>
              <a:ext cx="830160" cy="808920"/>
              <a:chOff x="3795120" y="1557360"/>
              <a:chExt cx="830160" cy="808920"/>
            </a:xfrm>
          </p:grpSpPr>
          <p:pic>
            <p:nvPicPr>
              <p:cNvPr id="59" name="Равнобедренный треугольник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5120" y="1557360"/>
                <a:ext cx="830160" cy="80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4215240" y="1942920"/>
                <a:ext cx="34920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Фигура, имеющая форму буквы L 16"/>
            <p:cNvGrpSpPr/>
            <p:nvPr/>
          </p:nvGrpSpPr>
          <p:grpSpPr>
            <a:xfrm>
              <a:off x="4926240" y="1563120"/>
              <a:ext cx="4217760" cy="2517480"/>
              <a:chOff x="4926240" y="1563120"/>
              <a:chExt cx="4217760" cy="2517480"/>
            </a:xfrm>
          </p:grpSpPr>
          <p:pic>
            <p:nvPicPr>
              <p:cNvPr id="62" name="Фигура, имеющая форму буквы L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926240" y="1563120"/>
                <a:ext cx="4217760" cy="25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5400000">
                <a:off x="6841440" y="-253440"/>
                <a:ext cx="385200" cy="40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Полилиния 17"/>
            <p:cNvSpPr/>
            <p:nvPr/>
          </p:nvSpPr>
          <p:spPr>
            <a:xfrm>
              <a:off x="5393520" y="1996920"/>
              <a:ext cx="369612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ровадження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дворівневих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"/>
          <p:cNvSpPr/>
          <p:nvPr/>
        </p:nvSpPr>
        <p:spPr>
          <a:xfrm>
            <a:off x="0" y="530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ів визначено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ми ЗН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глійської, іспанської, німецької та французької мов, затвердженим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ністерства освіти і науки Україн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3 лютого 2016 року № 77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затвердження програм зовнішнього незалежного оцінювання для осіб, які бажають здобувати вищу освіту на основі повної загальної середньої осві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255600" y="349200"/>
            <a:ext cx="82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ЗНО з іноземних 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6-09-26T06:10:03Z</dcterms:modified>
  <cp:revision>748</cp:revision>
  <dc:subject/>
  <dc:title>Diapositiva 1</dc:title>
</cp:coreProperties>
</file>