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71B-85DB-40A1-966A-C63B2D26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E18-0941-428C-9E0F-2DB7A57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E95-A7B5-4EA0-A568-484B3A1B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27B-24E5-4855-8C79-B542AD96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6F1-513E-42F9-A98D-F563EA9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7F7-EB5D-4631-B487-29C40191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2E8-3BC5-4811-BB8E-65FE7A86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0C7-3339-42B8-AB55-C5117E24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2A9-F715-4773-A70A-46BEC50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42E-9901-405D-8EDF-65AEF1C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B37-4A15-4193-BDE6-B9968AA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D4D-81B3-43EA-8F30-09024E0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95D-12CA-4306-BA53-5508D1FD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mages/b/bd/&#1042;_&#1082;&#1072;&#1073;&#1080;&#1085;&#1077;&#1090;&#1077;_&#1080;&#1085;&#1092;&#1086;&#1088;&#1084;&#1072;&#1090;&#1080;&#1082;&#1080;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ua/imgres?imgurl=http://www.happy-giraffe.ru/upload/userfiles/images/2012/03/21/teacher_1223384068122.jpg&amp;imgrefurl=http://www.happy-giraffe.ru/community/16/forum/post/10690/&amp;usg=__nN9hOgz7sGMf2MAEAjRSCKfEWLg=&amp;h=371&amp;w=400&amp;sz=29&amp;hl=ru&amp;start=38&amp;zoom=1&amp;tbnid=VYZY9UC74k6uhM:&amp;tbnh=115&amp;tbnw=124&amp;ei=ZMs1UIuQH4rDswbZo4DAAg&amp;prev=/search%3Fq%3D%25D0%25B4%25D0%25B5%25D1%2582%25D0%25B8%2B%25D0%25BD%25D0%25B0%2B%25D1%2583%25D1%2580%25D0%25BE%25D0%25BA%25D0%25B5%26start%3D20%26hl%3Dru%26sa%3DN%26gbv%3D2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gateacher.ru/wp-content/uploads/2012/07/reading05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57440" y="380880"/>
            <a:ext cx="3429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Освіта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– найвеличніше з усіх земних благ, але тільки тоді, коли вона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найвищої  якості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, інакше вона абсолютно дарем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Р. Кіплі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64882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d7e0e"/>
                </a:solidFill>
                <a:latin typeface="Arial"/>
              </a:rPr>
              <a:t>Методичні прийоми підвищення якості уроку і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Текст 5"/>
          <p:cNvSpPr/>
          <p:nvPr/>
        </p:nvSpPr>
        <p:spPr>
          <a:xfrm>
            <a:off x="1519200" y="85680"/>
            <a:ext cx="75391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Student and teacher at computer terminal with student in background Stock Photo - 3225505"/>
          <p:cNvPicPr/>
          <p:nvPr/>
        </p:nvPicPr>
        <p:blipFill>
          <a:blip r:embed="rId2"/>
          <a:stretch/>
        </p:blipFill>
        <p:spPr>
          <a:xfrm>
            <a:off x="152280" y="5365800"/>
            <a:ext cx="22352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«Виправ послідовні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914400"/>
            <a:ext cx="84582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80" indent="-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чню надається умова завдання та її розв’язок у помилковій послідовності або розв’язок, в якому немає суттєвої частини рі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3E7-F3B9-4AB7-8128-6829A22F3A61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04920" y="2448000"/>
            <a:ext cx="321300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Є задача та лише фрагмент її рішення. Необхідно відновити рішення повніст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Дано речення. Скільки слів є перевертнями і чи буде це число доскона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581280" y="1898280"/>
            <a:ext cx="524520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rogram z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uses c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var i,j,k,l,l1,sum,k1 :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,b,c :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d : array [1..60] of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введ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т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ь текст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: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l:=lengt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f (a[l]&lt;&gt;'.')or(a[l]&lt;&gt;'!')or(a[l]&lt;&gt;'?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[l+1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nc(l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a[l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for i:=1 to l do if (a[i]=' 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н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досконал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Файл:В кабинете информатики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952880"/>
            <a:ext cx="24195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6240" y="198000"/>
            <a:ext cx="78105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Також підвищенню якості уроку сприя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37124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гієнично правильно та раціонально спланована організація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ільність уроку (не менше 60% і не більше 75-80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тимальна зміна видів діяльності (4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тривалість різних видів діяльності (не більше 10 хвил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тота чергування різних видів діяльності (не пізніше ніж через 7-10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використовуваних методів і прийомів викладання (не менше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методів і прийомів викладання (не рідше ніж через 10 -15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 емоційних розрядок (2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пози учнів, яка змінюється відповідно до виду робо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, місце, зміст і тривалість фізкультхвили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хологічний клімат 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жанням позитивних емоцій уч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26D-9115-4E48-90D2-4EDB7DC94D35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5480" y="304560"/>
            <a:ext cx="746460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екрети захоплюючого уроку</a:t>
            </a:r>
            <a:br>
              <a:rPr sz="40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поради вчителю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1409760"/>
            <a:ext cx="84582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Почніть урок у незвичайній фор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Похвала - це те, що найбільше потрібно вашим учням.   Інтерес у великій мірі залежить від пох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Ніколи не кажіть: «як ми вже знаємо ...». Кожного разу припускайте, що учні не знають нічого. Ведіть урок так, щоб учні в кожен його момент робили для себе маленьке відкри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У хороших педагогів є особлива властивість: коли вони говорять з класом, то кожному учню здається, що вчитель говорить з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Інтерес залежить від розуміння. Не потрібно жодних хитрощів. Ясність - основа інте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Деталі! Деталі! Деталі! Придумайте для уроку захоплюючий сюжет і приголомшливі дрібні деталі. Успіх забезпечен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. Якщо ви не захоплені своїм предметом, не палко бажаєте повідомити учням деякі приголомшливі дані і подробиці - вам ніколи не провести цікав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785-E8CB-441B-AB85-BFE2C64E39CF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&amp;Kcy;&amp;acy;&amp;rcy;&amp;tcy;&amp;icy;&amp;ncy;&amp;kcy;&amp;acy; 164 &amp;icy;&amp;zcy; 54716"/>
          <p:cNvPicPr/>
          <p:nvPr/>
        </p:nvPicPr>
        <p:blipFill>
          <a:blip r:embed="rId2"/>
          <a:stretch/>
        </p:blipFill>
        <p:spPr>
          <a:xfrm>
            <a:off x="2666880" y="762120"/>
            <a:ext cx="3538800" cy="249552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685800" y="3505320"/>
            <a:ext cx="785484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Якісних Вам урокі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228600"/>
            <a:ext cx="3632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ловним фактором та ресурс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о забезпечує якість навчання   є  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7FAF-7461-4E01-BE42-8893023B9C6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60090a219627a7ddd383b5984d5fab08"/>
          <p:cNvPicPr/>
          <p:nvPr/>
        </p:nvPicPr>
        <p:blipFill>
          <a:blip r:embed="rId2"/>
          <a:stretch/>
        </p:blipFill>
        <p:spPr>
          <a:xfrm>
            <a:off x="4495680" y="152280"/>
            <a:ext cx="426744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4920" y="3883320"/>
            <a:ext cx="82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часний урок - це урок, який відповідає вимогам підготовки конкурентоспроможног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ускника з оптимальним рівнем якості освітньої підготовки, володіє ключовими компетенціями і має здатність до соціалізації в інших, відмінних від школи освітній середовища, умов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3480" y="631440"/>
            <a:ext cx="84582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2708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блема підвищення якості уроку – найактуальніша сьогодні, у світі розвитку засобів доступу до інформації, бо вчитель вже не є єдиним джерелом навчальної інформації. Більш за все це стосується предмету “Інформатик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spcBef>
                <a:spcPts val="799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us.123rf.com/400wm/400/400/samuiarzt/samuiarzt1205/samuiarzt120501020/13833835-blank-button-on-modern-computer-screen-with-business-person.jpg"/>
          <p:cNvPicPr/>
          <p:nvPr/>
        </p:nvPicPr>
        <p:blipFill>
          <a:blip r:embed="rId2"/>
          <a:stretch/>
        </p:blipFill>
        <p:spPr>
          <a:xfrm>
            <a:off x="3048120" y="3878280"/>
            <a:ext cx="29145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923760"/>
            <a:ext cx="871236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остійне підвищення наукової ерудиції, педагогічної майстерності вч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омплексне планування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аціональне використання часу уро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тримання логіки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ідповідність змісту освіти методам навчання, можливостям учнів і вчител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озвиток творчої активності і самостійності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цільне та ефективне використання комп’ютера на уроц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облік індивідуальних особливостей учні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Nd9GcRroY2quyPYwx7UNAcjzjnSmjoELV-TrnSsrqfIxETylMZrCoju0-BxMX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600200"/>
            <a:ext cx="20350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им з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фективних способів підвищення якості уроку є надання тому чи іншому виду навчальної діяльності нестандартних, оригінальних прий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методичні прийоми на власних уроках, вчитель інформатики суттєво підвищує пізнавальний інтерес до навчання, формує позитивний досвід роботи з нестандартними завданнями, розвиває мислення учнів тощ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F4F-AD46-4A8F-85C9-899893D8B700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етодичні прийоми підвищення якості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стандартний почат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бота учнів в групах з визначенням відповідальних за різні види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які види фронтальнії діяльність учнів – «аукціон», прийом «вірю-невір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зні види самостійної роботи: «двійковий диктант», «павутинка», «допиши речення», «склади тестове запитання» то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0275-45A8-4703-8B94-357CC7440379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imes New Roman"/>
              </a:rPr>
              <a:t>Ефективними є прийоми технології критичного мисленн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1920" y="1854000"/>
            <a:ext cx="84582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озковий шту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і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ворення міні-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5EF9-3163-48ED-B308-12D392509A20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&amp;Kcy;&amp;acy;&amp;rcy;&amp;tcy;&amp;icy;&amp;ncy;&amp;kcy;&amp;acy; 44 &amp;icy;&amp;zcy; 154034"/>
          <p:cNvPicPr/>
          <p:nvPr/>
        </p:nvPicPr>
        <p:blipFill>
          <a:blip r:embed="rId2"/>
          <a:stretch/>
        </p:blipFill>
        <p:spPr>
          <a:xfrm>
            <a:off x="5181480" y="1752480"/>
            <a:ext cx="347976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053400" cy="45576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рийоми роботи з підруч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Придумай заголов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зміс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питання за змістом тексту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особлива увага приділяється вмінню складати питання, що відображають причинно-наслідкові зв'яз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Знайди джерело інформації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тестове питан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граф-схему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отування, рецензування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ading05 267x300 Как продуктивно работать с текстом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86200"/>
            <a:ext cx="25434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- «Замітки на пол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дання учням навчального тексту з завданням зробити помітки за такими познач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»  - нов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!» - дуже цінн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?»  - не зрозум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корисно, звернути ув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перевірити на комп'ютер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сний прийом на уроках, перевантажених теоретичним матеріалом, вимагає від учня не пасивного читання, а активного та уваж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C2A0-E03F-480A-A030-E7EF41EEE5FC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&amp;Kcy;&amp;acy;&amp;rcy;&amp;tcy;&amp;icy;&amp;ncy;&amp;kcy;&amp;acy; 228 &amp;icy;&amp;zcy; 25292"/>
          <p:cNvPicPr/>
          <p:nvPr/>
        </p:nvPicPr>
        <p:blipFill>
          <a:blip r:embed="rId2"/>
          <a:stretch/>
        </p:blipFill>
        <p:spPr>
          <a:xfrm>
            <a:off x="6477120" y="2438280"/>
            <a:ext cx="2361960" cy="2300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523880" y="152280"/>
            <a:ext cx="6222960" cy="35424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dd7e0e"/>
                </a:solidFill>
                <a:latin typeface="Arial"/>
              </a:rPr>
              <a:t>Прийоми роботи з підручнико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20:54:19Z</dcterms:created>
  <dc:creator>Admin</dc:creator>
  <dc:description/>
  <dc:language>en-US</dc:language>
  <cp:lastModifiedBy>Admin</cp:lastModifiedBy>
  <dcterms:modified xsi:type="dcterms:W3CDTF">2014-02-10T22:01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