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03D-85A7-495D-BE3E-D68E1DCC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E2A-22B9-4433-8552-5AC79D3D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09AE-8087-4D3B-81CE-EC7EB960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49FC-B15A-42D3-BED6-60729C76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C8A2-5BFF-4C9F-A999-C22B6F5F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BA1F-1048-43C4-A6C4-7AA859C7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035E-2123-4828-BBCE-0D333D40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F3D6-E47A-44A0-A239-51DF5CC7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21C2-02B4-4CBA-9D36-F5409786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C028-651C-46FB-B08F-BFE3FC51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C9A-5620-4848-AAC8-04C33FE7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620-F139-40FD-86DE-C36FEE1F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AD4E-AF60-4EDC-857E-CB03D2A71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iki.iteach.ru/images/b/bd/&#1042;_&#1082;&#1072;&#1073;&#1080;&#1085;&#1077;&#1090;&#1077;_&#1080;&#1085;&#1092;&#1086;&#1088;&#1084;&#1072;&#1090;&#1080;&#1082;&#1080;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.ua/imgres?imgurl=http://www.happy-giraffe.ru/upload/userfiles/images/2012/03/21/teacher_1223384068122.jpg&amp;imgrefurl=http://www.happy-giraffe.ru/community/16/forum/post/10690/&amp;usg=__nN9hOgz7sGMf2MAEAjRSCKfEWLg=&amp;h=371&amp;w=400&amp;sz=29&amp;hl=ru&amp;start=38&amp;zoom=1&amp;tbnid=VYZY9UC74k6uhM:&amp;tbnh=115&amp;tbnw=124&amp;ei=ZMs1UIuQH4rDswbZo4DAAg&amp;prev=/search%3Fq%3D%25D0%25B4%25D0%25B5%25D1%2582%25D0%25B8%2B%25D0%25BD%25D0%25B0%2B%25D1%2583%25D1%2580%25D0%25BE%25D0%25BA%25D0%25B5%26start%3D20%26hl%3Dru%26sa%3DN%26gbv%3D2%26tbm%3Disch&amp;itbs=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egateacher.ru/wp-content/uploads/2012/07/reading05.png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257440" y="380880"/>
            <a:ext cx="3429000" cy="12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Освіта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 – найвеличніше з усіх земних благ, але тільки тоді, коли вона 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найвищої  якості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, інакше вона абсолютно дарем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Р. Кіплін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648828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3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d7e0e"/>
                </a:solidFill>
                <a:latin typeface="Arial"/>
              </a:rPr>
              <a:t>Методичні прийоми підвищення якості уроку інформат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Текст 5"/>
          <p:cNvSpPr/>
          <p:nvPr/>
        </p:nvSpPr>
        <p:spPr>
          <a:xfrm>
            <a:off x="1519200" y="85680"/>
            <a:ext cx="75391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Student and teacher at computer terminal with student in background Stock Photo - 3225505"/>
          <p:cNvPicPr/>
          <p:nvPr/>
        </p:nvPicPr>
        <p:blipFill>
          <a:blip r:embed="rId2"/>
          <a:stretch/>
        </p:blipFill>
        <p:spPr>
          <a:xfrm>
            <a:off x="152280" y="5365800"/>
            <a:ext cx="223524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«Виправ послідовніс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560" y="914400"/>
            <a:ext cx="84582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080" indent="-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чню надається умова завдання та її розв’язок у помилковій послідовності або розв’язок, в якому немає суттєвої частини ріш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FE86-D9E8-435C-93D6-AC812AA0577A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04920" y="2448000"/>
            <a:ext cx="321300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Arial"/>
                <a:ea typeface="Times New Roman"/>
              </a:rPr>
              <a:t>Є задача та лише фрагмент її рішення. Необхідно відновити рішення повніст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Arial"/>
                <a:ea typeface="Times New Roman"/>
              </a:rPr>
              <a:t>Дано речення. Скільки слів є перевертнями і чи буде це число досконал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581280" y="1898280"/>
            <a:ext cx="5245200" cy="49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program z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uses cr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var i,j,k,l,l1,sum,k1 : longi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a,b,c : strin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d : array [1..60] of longi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write('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введ</a:t>
            </a:r>
            <a:r>
              <a:rPr b="0" lang="uk-UA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і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т</a:t>
            </a:r>
            <a:r>
              <a:rPr b="0" lang="uk-UA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ь текст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: 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readln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l:=lengt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if (a[l]&lt;&gt;'.')or(a[l]&lt;&gt;'!')or(a[l]&lt;&gt;'?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then 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a[l+1]:=' '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inc(l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else a[l]:=' '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for i:=1 to l do if (a[i]=' 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then 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else write('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не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досконале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readl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Файл:В кабинете информатики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4952880"/>
            <a:ext cx="241956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76240" y="198000"/>
            <a:ext cx="78105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Також підвищенню якості уроку сприяє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" y="137124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ігієнично правильно та раціонально спланована організація уро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щільність уроку (не менше 60% і не більше 75-80%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птимальна зміна видів діяльності (4-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тривалість різних видів діяльності (не більше 10 хвил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астота чергування різних видів діяльності (не пізніше ніж через 7-10 хв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використовуваних методів і прийомів викладання (не менше 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ергування методів і прийомів викладання (не рідше ніж через 10 -15 хв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явність емоційних розрядок (2-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ергування пози учнів, яка змінюється відповідно до виду робо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явність, місце, зміст і тривалість фізкультхвилин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сихологічний клімат 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важанням позитивних емоцій учн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7E4B-B587-46A1-A126-2EFF0D748E25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5480" y="304560"/>
            <a:ext cx="7464600" cy="106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Секрети захоплюючого уроку</a:t>
            </a:r>
            <a:br>
              <a:rPr sz="4000"/>
            </a:b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(поради вчителю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240" y="1409760"/>
            <a:ext cx="84582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265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. Почніть урок у незвичайній форм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65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. Похвала - це те, що найбільше потрібно вашим учням.   Інтерес у великій мірі залежить від похв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65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. Ніколи не кажіть: «як ми вже знаємо ...». Кожного разу припускайте, що учні не знають нічого. Ведіть урок так, щоб учні в кожен його момент робили для себе маленьке відкритт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65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4. У хороших педагогів є особлива властивість: коли вони говорять з класом, то кожному учню здається, що вчитель говорить з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65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5. Інтерес залежить від розуміння. Не потрібно жодних хитрощів. Ясність - основа інтер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65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6. Деталі! Деталі! Деталі! Придумайте для уроку захоплюючий сюжет і приголомшливі дрібні деталі. Успіх забезпечени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65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7. Якщо ви не захоплені своїм предметом, не палко бажаєте повідомити учням деякі приголомшливі дані і подробиці - вам ніколи не провести цікавий у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E170-6B80-4646-866B-3D91A4963AC8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&amp;Kcy;&amp;acy;&amp;rcy;&amp;tcy;&amp;icy;&amp;ncy;&amp;kcy;&amp;acy; 164 &amp;icy;&amp;zcy; 54716"/>
          <p:cNvPicPr/>
          <p:nvPr/>
        </p:nvPicPr>
        <p:blipFill>
          <a:blip r:embed="rId2"/>
          <a:stretch/>
        </p:blipFill>
        <p:spPr>
          <a:xfrm>
            <a:off x="2666880" y="762120"/>
            <a:ext cx="3538800" cy="2495520"/>
          </a:xfrm>
          <a:prstGeom prst="rect">
            <a:avLst/>
          </a:prstGeom>
          <a:ln w="0">
            <a:noFill/>
          </a:ln>
        </p:spPr>
      </p:pic>
      <p:sp>
        <p:nvSpPr>
          <p:cNvPr id="85" name="WordArt 6"/>
          <p:cNvSpPr txBox="1"/>
          <p:nvPr/>
        </p:nvSpPr>
        <p:spPr>
          <a:xfrm>
            <a:off x="685800" y="3505320"/>
            <a:ext cx="7854840" cy="103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Якісних Вам уроків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80880" y="228600"/>
            <a:ext cx="363240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720" indent="-720">
              <a:spcBef>
                <a:spcPts val="90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оловним фактором та ресурсо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20" indent="-720">
              <a:spcBef>
                <a:spcPts val="90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що забезпечує якість навчання   є   УР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29D6-C25A-41EC-A875-430123DBD80A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60090a219627a7ddd383b5984d5fab08"/>
          <p:cNvPicPr/>
          <p:nvPr/>
        </p:nvPicPr>
        <p:blipFill>
          <a:blip r:embed="rId2"/>
          <a:stretch/>
        </p:blipFill>
        <p:spPr>
          <a:xfrm>
            <a:off x="4495680" y="152280"/>
            <a:ext cx="4267440" cy="29527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304920" y="3883320"/>
            <a:ext cx="827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часний урок - це урок, який відповідає вимогам підготовки конкурентоспроможног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пускника з оптимальним рівнем якості освітньої підготовки, володіє ключовими компетенціями і має здатність до соціалізації в інших, відмінних від школи освітній середовища, умова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3480" y="631440"/>
            <a:ext cx="84582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127080" indent="0">
              <a:spcBef>
                <a:spcPts val="79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блема підвищення якості уроку – найактуальніша сьогодні, у світі розвитку засобів доступу до інформації, бо вчитель вже не є єдиним джерелом навчальної інформації. Більш за все це стосується предмету “Інформатика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7080" indent="0">
              <a:spcBef>
                <a:spcPts val="799"/>
              </a:spcBef>
              <a:buNone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http://us.123rf.com/400wm/400/400/samuiarzt/samuiarzt1205/samuiarzt120501020/13833835-blank-button-on-modern-computer-screen-with-business-person.jpg"/>
          <p:cNvPicPr/>
          <p:nvPr/>
        </p:nvPicPr>
        <p:blipFill>
          <a:blip r:embed="rId2"/>
          <a:stretch/>
        </p:blipFill>
        <p:spPr>
          <a:xfrm>
            <a:off x="3048120" y="3878280"/>
            <a:ext cx="2914560" cy="28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Шляхи підвищення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якості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923760"/>
            <a:ext cx="871236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постійне підвищення наукової ерудиції, педагогічної майстерності вчител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комплексне планування урок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раціональне використання часу урок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дотримання логіки урок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відповідність змісту освіти методам навчання, можливостям учнів і вчител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розвиток творчої активності і самостійності учн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доцільне та ефективне використання комп’ютера на уроці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облік індивідуальних особливостей учнів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ANd9GcRroY2quyPYwx7UNAcjzjnSmjoELV-TrnSsrqfIxETylMZrCoju0-BxMX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1600200"/>
            <a:ext cx="203508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Шляхи підвищення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якості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им з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ефективних способів підвищення якості уроку є надання тому чи іншому виду навчальної діяльності нестандартних, оригінальних прийом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користовуючи методичні прийоми на власних уроках, вчитель інформатики суттєво підвищує пізнавальний інтерес до навчання, формує позитивний досвід роботи з нестандартними завданнями, розвиває мислення учнів тощ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8CF4-55CB-4E64-8D63-FB359CE71721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Методичні прийоми підвищення якості уро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естандартний початок у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бота учнів в групах з визначенням відповідальних за різні види діяль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еякі види фронтальнії діяльність учнів – «аукціон», прийом «вірю-невір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ізні види самостійної роботи: «двійковий диктант», «павутинка», «допиши речення», «склади тестове запитання» тощ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8F59-DB03-423E-8321-E69CFC15A624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Times New Roman"/>
              </a:rPr>
              <a:t>Ефективними є прийоми технології критичного мислення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1920" y="1854000"/>
            <a:ext cx="84582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«Мозковий штур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«Мікроф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творення міні-проек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4BAB-2CE6-4C8F-AB15-3151D6CD716E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&amp;Kcy;&amp;acy;&amp;rcy;&amp;tcy;&amp;icy;&amp;ncy;&amp;kcy;&amp;acy; 44 &amp;icy;&amp;zcy; 154034"/>
          <p:cNvPicPr/>
          <p:nvPr/>
        </p:nvPicPr>
        <p:blipFill>
          <a:blip r:embed="rId2"/>
          <a:stretch/>
        </p:blipFill>
        <p:spPr>
          <a:xfrm>
            <a:off x="5181480" y="1752480"/>
            <a:ext cx="3479760" cy="26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609480"/>
            <a:ext cx="6053400" cy="45576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Прийоми роботи з підручнико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4582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8200" indent="-273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«Придумай заголовок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«Склади зміст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«Створи питання за змістом тексту»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особлива увага приділяється вмінню складати питання, що відображають причинно-наслідкові зв'яз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«Знайди джерело інформації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«Створи тестове питання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«Склади граф-схему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отування, рецензування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ощ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reading05 267x300 Как продуктивно работать с текстом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3886200"/>
            <a:ext cx="254340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- «Замітки на поля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84582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57480" indent="-71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дання учням навчального тексту з завданням зробити помітки за такими познач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«+»  - нова інформ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«+!» - дуже цінна інформ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«?»  - не зрозумі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» - корисно, звернути ува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» - перевірити на комп'ютер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71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орисний прийом на уроках, перевантажених теоретичним матеріалом, вимагає від учня не пасивного читання, а активного та уваж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71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2FC0-D55F-46E8-BBCC-8F0A511BA161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&amp;Kcy;&amp;acy;&amp;rcy;&amp;tcy;&amp;icy;&amp;ncy;&amp;kcy;&amp;acy; 228 &amp;icy;&amp;zcy; 25292"/>
          <p:cNvPicPr/>
          <p:nvPr/>
        </p:nvPicPr>
        <p:blipFill>
          <a:blip r:embed="rId2"/>
          <a:stretch/>
        </p:blipFill>
        <p:spPr>
          <a:xfrm>
            <a:off x="6477120" y="2438280"/>
            <a:ext cx="2361960" cy="23004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9"/>
          <p:cNvSpPr/>
          <p:nvPr/>
        </p:nvSpPr>
        <p:spPr>
          <a:xfrm>
            <a:off x="1523880" y="152280"/>
            <a:ext cx="6222960" cy="35424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dd7e0e"/>
                </a:solidFill>
                <a:latin typeface="Arial"/>
              </a:rPr>
              <a:t>Прийоми роботи з підручником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20:54:19Z</dcterms:created>
  <dc:creator>Admin</dc:creator>
  <dc:description/>
  <dc:language>en-US</dc:language>
  <cp:lastModifiedBy>Admin</cp:lastModifiedBy>
  <dcterms:modified xsi:type="dcterms:W3CDTF">2014-02-10T22:01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